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png" ContentType="image/png"/>
  <Override PartName="/ppt/media/LASER.WAV" ContentType="audio/x-wav"/>
  <Override PartName="/ppt/media/image5.wmf" ContentType="image/x-wmf"/>
  <Override PartName="/ppt/media/image3.wmf" ContentType="image/x-wmf"/>
  <Override PartName="/ppt/media/GUNSHOT.WAV" ContentType="audio/x-wav"/>
  <Override PartName="/ppt/media/GLASS.WAV" ContentType="audio/x-wav"/>
  <Override PartName="/ppt/media/RICOCHET.WAV" ContentType="audio/x-wav"/>
  <Override PartName="/ppt/media/CARBRAKE.WAV" ContentType="audio/x-wav"/>
  <Override PartName="/ppt/media/WHOOSH.WAV" ContentType="audio/x-wav"/>
  <Override PartName="/ppt/media/image8.png" ContentType="image/png"/>
  <Override PartName="/ppt/media/image7.png" ContentType="image/png"/>
  <Override PartName="/ppt/media/image1.png" ContentType="image/png"/>
  <Override PartName="/ppt/media/image2.png" ContentType="image/png"/>
  <Override PartName="/ppt/media/CASHREG.WAV" ContentType="audio/x-wav"/>
  <Override PartName="/ppt/media/DRUMROLL.WAV" ContentType="audio/x-wav"/>
  <Override PartName="/ppt/media/CAMERA.WAV" ContentType="audio/x-wav"/>
  <Override PartName="/ppt/media/image4.wmf" ContentType="image/x-wmf"/>
  <Override PartName="/ppt/media/EXPLODE.WAV" ContentType="audio/x-wav"/>
  <Override PartName="/ppt/media/LOGOFF.WAV" ContentType="audio/x-wav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ED9-A68F-40E6-904A-905BB882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1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7C9-A029-4670-8D5E-D576E3BA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592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1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5920" y="411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E78-016F-4F59-85DD-A05D3A8B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1240" y="1963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8880" y="1963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1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1240" y="411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8880" y="411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B08-304B-44BB-AD71-27F19224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963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CCB-4378-4E49-8892-39A22980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1BE-56A1-4159-B51A-A28350F7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5920" y="1963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843-4AD3-4129-A251-A25D6122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ADB-A659-4F1F-8F9D-4EE14AAE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156-11AE-4FCE-B884-170D46AD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5920" y="1963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1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C4E-B815-4C50-A31B-C7E9CFD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592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5920" y="411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6DB-AE44-403F-A65C-8566659B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592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1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2F5-75E4-4118-AA3F-7CC271C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963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08472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ohn Park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. Brendan’s 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9612-EBAC-4D8A-AF49-A3AD8A790FA0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AMERA.WAV"/><Relationship Id="rId7" Type="http://schemas.openxmlformats.org/officeDocument/2006/relationships/audio" Target="../media/CASHREG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LOGOFF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EXPLOD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LOGOFF.WAV"/><Relationship Id="rId8" Type="http://schemas.openxmlformats.org/officeDocument/2006/relationships/audio" Target="../media/RICOCHET.WAV"/><Relationship Id="rId9" Type="http://schemas.openxmlformats.org/officeDocument/2006/relationships/audio" Target="../media/CAMERA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UNSHOT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RICOCHET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CAMERA.WAV"/><Relationship Id="rId12" Type="http://schemas.openxmlformats.org/officeDocument/2006/relationships/audio" Target="../media/LOGOFF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RBRAKE.WAV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CAMERA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RBRAKE.WAV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CAMERA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LOGOFF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950760" y="504720"/>
            <a:ext cx="3483000" cy="17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WAVES</a:t>
            </a:r>
            <a:endParaRPr b="1" i="1" lang="en-US" sz="4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5223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6000" y="5835600"/>
            <a:ext cx="3208320" cy="55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hn Parki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. Brendan’s  Sixth Form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F59-5A6D-4415-9F8A-D764035DE15F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813240" y="289080"/>
            <a:ext cx="375156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Young’s Double Sl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5880" y="457200"/>
            <a:ext cx="2830680" cy="256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IS RELIES INITIALLY ON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LIGHT DIFFRACTING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THROUGH EACH SLI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Where the diffracted light overlaps, interference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01680" y="1335240"/>
            <a:ext cx="5320080" cy="3541320"/>
            <a:chOff x="301680" y="1335240"/>
            <a:chExt cx="5320080" cy="3541320"/>
          </a:xfrm>
        </p:grpSpPr>
        <p:grpSp>
          <p:nvGrpSpPr>
            <p:cNvPr id="816" name=""/>
            <p:cNvGrpSpPr/>
            <p:nvPr/>
          </p:nvGrpSpPr>
          <p:grpSpPr>
            <a:xfrm>
              <a:off x="2217600" y="1577880"/>
              <a:ext cx="0" cy="2516040"/>
              <a:chOff x="2217600" y="1577880"/>
              <a:chExt cx="0" cy="2516040"/>
            </a:xfrm>
          </p:grpSpPr>
          <p:sp>
            <p:nvSpPr>
              <p:cNvPr id="817" name=""/>
              <p:cNvSpPr/>
              <p:nvPr/>
            </p:nvSpPr>
            <p:spPr>
              <a:xfrm>
                <a:off x="2217600" y="1577880"/>
                <a:ext cx="0" cy="91440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217600" y="2608200"/>
                <a:ext cx="0" cy="46008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17600" y="3179520"/>
                <a:ext cx="0" cy="91440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01680" y="1335240"/>
              <a:ext cx="5320080" cy="3541320"/>
              <a:chOff x="301680" y="1335240"/>
              <a:chExt cx="5320080" cy="3541320"/>
            </a:xfrm>
          </p:grpSpPr>
          <p:sp>
            <p:nvSpPr>
              <p:cNvPr id="821" name=""/>
              <p:cNvSpPr/>
              <p:nvPr/>
            </p:nvSpPr>
            <p:spPr>
              <a:xfrm>
                <a:off x="4626000" y="1335240"/>
                <a:ext cx="127080" cy="3151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940320" y="3730680"/>
                <a:ext cx="1343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Arial"/>
                  </a:rPr>
                  <a:t>dou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Arial"/>
                  </a:rPr>
                  <a:t>sli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293360" y="4356000"/>
                <a:ext cx="13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cree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1680" y="2602080"/>
                <a:ext cx="7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igh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165320" y="2598840"/>
                <a:ext cx="831600" cy="1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168560" y="3079800"/>
                <a:ext cx="831600" cy="1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89160" y="2857680"/>
                <a:ext cx="704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8" name=""/>
          <p:cNvGrpSpPr/>
          <p:nvPr/>
        </p:nvGrpSpPr>
        <p:grpSpPr>
          <a:xfrm>
            <a:off x="2205000" y="1728720"/>
            <a:ext cx="2421000" cy="2222640"/>
            <a:chOff x="2205000" y="1728720"/>
            <a:chExt cx="2421000" cy="2222640"/>
          </a:xfrm>
        </p:grpSpPr>
        <p:sp>
          <p:nvSpPr>
            <p:cNvPr id="829" name=""/>
            <p:cNvSpPr/>
            <p:nvPr/>
          </p:nvSpPr>
          <p:spPr>
            <a:xfrm flipV="1">
              <a:off x="2239920" y="1728720"/>
              <a:ext cx="2386080" cy="81144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39920" y="2540160"/>
              <a:ext cx="2386080" cy="66960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2205000" y="2239920"/>
              <a:ext cx="2421000" cy="8812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22640" y="3139920"/>
              <a:ext cx="2403360" cy="81144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3122640" y="5732640"/>
            <a:ext cx="74520" cy="7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16200000">
            <a:off x="3439800" y="2008080"/>
            <a:ext cx="938160" cy="1398600"/>
          </a:xfrm>
          <a:prstGeom prst="triangle">
            <a:avLst>
              <a:gd name="adj" fmla="val 4111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99040" y="3429000"/>
            <a:ext cx="24354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4145040" y="2822040"/>
            <a:ext cx="1271520" cy="606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39920" y="4780080"/>
            <a:ext cx="1606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2557440" y="2487600"/>
            <a:ext cx="652320" cy="2185920"/>
            <a:chOff x="2557440" y="2487600"/>
            <a:chExt cx="652320" cy="2185920"/>
          </a:xfrm>
        </p:grpSpPr>
        <p:sp>
          <p:nvSpPr>
            <p:cNvPr id="839" name=""/>
            <p:cNvSpPr/>
            <p:nvPr/>
          </p:nvSpPr>
          <p:spPr>
            <a:xfrm flipV="1">
              <a:off x="2557440" y="2487600"/>
              <a:ext cx="652320" cy="2185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557440" y="3103200"/>
              <a:ext cx="158760" cy="1569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4626000" y="4952880"/>
            <a:ext cx="1708200" cy="1463760"/>
            <a:chOff x="4626000" y="4952880"/>
            <a:chExt cx="1708200" cy="1463760"/>
          </a:xfrm>
        </p:grpSpPr>
        <p:sp>
          <p:nvSpPr>
            <p:cNvPr id="842" name=""/>
            <p:cNvSpPr/>
            <p:nvPr/>
          </p:nvSpPr>
          <p:spPr>
            <a:xfrm>
              <a:off x="4626000" y="4952880"/>
              <a:ext cx="1708200" cy="1463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90040" y="550764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89840" y="550368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29600" y="5513760"/>
              <a:ext cx="5796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22120" y="550908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78960" y="550260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393160" y="5512680"/>
              <a:ext cx="86040" cy="376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44160" y="550656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883120" y="5537880"/>
              <a:ext cx="0" cy="362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02560" y="5532480"/>
              <a:ext cx="0" cy="362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28560" y="5532480"/>
              <a:ext cx="0" cy="362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51360" y="5532480"/>
              <a:ext cx="0" cy="362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35840" y="553032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713120" y="552888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6138720" y="4022640"/>
            <a:ext cx="26989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ome fringes may be missing where there is a minimum in the diffraction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985-0AD2-4641-9607-7D550CDA937B}" type="slidenum">
              <a:t>10</a:t>
            </a:fld>
          </a:p>
        </p:txBody>
      </p:sp>
    </p:spTree>
  </p:cSld>
  <p:transition spd="slow">
    <p:split dir="in" orient="horz"/>
    <p:sndAc>
      <p:stSnd>
        <p:snd r:embed="rId2" name="CAMERA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OG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0" y="2298600"/>
            <a:ext cx="5538960" cy="3403800"/>
            <a:chOff x="0" y="2298600"/>
            <a:chExt cx="5538960" cy="3403800"/>
          </a:xfrm>
        </p:grpSpPr>
        <p:grpSp>
          <p:nvGrpSpPr>
            <p:cNvPr id="858" name=""/>
            <p:cNvGrpSpPr/>
            <p:nvPr/>
          </p:nvGrpSpPr>
          <p:grpSpPr>
            <a:xfrm>
              <a:off x="216000" y="2298600"/>
              <a:ext cx="4948200" cy="3403800"/>
              <a:chOff x="216000" y="2298600"/>
              <a:chExt cx="4948200" cy="3403800"/>
            </a:xfrm>
          </p:grpSpPr>
          <p:sp>
            <p:nvSpPr>
              <p:cNvPr id="859" name=""/>
              <p:cNvSpPr/>
              <p:nvPr/>
            </p:nvSpPr>
            <p:spPr>
              <a:xfrm>
                <a:off x="216000" y="4048200"/>
                <a:ext cx="493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989600" y="2298600"/>
                <a:ext cx="174600" cy="340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431280" y="2554200"/>
                <a:ext cx="4704480" cy="2886120"/>
                <a:chOff x="431280" y="2554200"/>
                <a:chExt cx="4704480" cy="288612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478080" y="2554200"/>
                  <a:ext cx="0" cy="800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78080" y="4640040"/>
                  <a:ext cx="0" cy="800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442440" y="3202560"/>
                  <a:ext cx="4693320" cy="1019520"/>
                  <a:chOff x="442440" y="3202560"/>
                  <a:chExt cx="4693320" cy="1019520"/>
                </a:xfrm>
              </p:grpSpPr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442440" y="3202560"/>
                    <a:ext cx="1602360" cy="654120"/>
                    <a:chOff x="442440" y="3202560"/>
                    <a:chExt cx="1602360" cy="65412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 rot="371400">
                      <a:off x="467280" y="322200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 rot="371400">
                      <a:off x="854280" y="326376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 rot="371400">
                      <a:off x="1242000" y="33058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 rot="371400">
                      <a:off x="1629720" y="334800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1986840" y="3382560"/>
                    <a:ext cx="1602360" cy="654480"/>
                    <a:chOff x="1986840" y="3382560"/>
                    <a:chExt cx="1602360" cy="654480"/>
                  </a:xfrm>
                </p:grpSpPr>
                <p:sp>
                  <p:nvSpPr>
                    <p:cNvPr id="871" name=""/>
                    <p:cNvSpPr/>
                    <p:nvPr/>
                  </p:nvSpPr>
                  <p:spPr>
                    <a:xfrm rot="371400">
                      <a:off x="2012040" y="340200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 rot="371400">
                      <a:off x="2399040" y="344376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 rot="371400">
                      <a:off x="2786400" y="348588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 rot="371400">
                      <a:off x="3174120" y="352800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3533400" y="3567600"/>
                    <a:ext cx="1602360" cy="654480"/>
                    <a:chOff x="3533400" y="3567600"/>
                    <a:chExt cx="1602360" cy="654480"/>
                  </a:xfrm>
                </p:grpSpPr>
                <p:sp>
                  <p:nvSpPr>
                    <p:cNvPr id="876" name=""/>
                    <p:cNvSpPr/>
                    <p:nvPr/>
                  </p:nvSpPr>
                  <p:spPr>
                    <a:xfrm rot="371400">
                      <a:off x="3558240" y="358704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 rot="371400">
                      <a:off x="3945240" y="362916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 rot="371400">
                      <a:off x="4332960" y="36712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 rot="371400">
                      <a:off x="4720680" y="371340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431280" y="3745800"/>
                  <a:ext cx="4699080" cy="1037880"/>
                  <a:chOff x="431280" y="3745800"/>
                  <a:chExt cx="4699080" cy="1037880"/>
                </a:xfrm>
              </p:grpSpPr>
              <p:grpSp>
                <p:nvGrpSpPr>
                  <p:cNvPr id="881" name=""/>
                  <p:cNvGrpSpPr/>
                  <p:nvPr/>
                </p:nvGrpSpPr>
                <p:grpSpPr>
                  <a:xfrm>
                    <a:off x="431280" y="4104360"/>
                    <a:ext cx="1607400" cy="679320"/>
                    <a:chOff x="431280" y="4104360"/>
                    <a:chExt cx="1607400" cy="679320"/>
                  </a:xfrm>
                </p:grpSpPr>
                <p:sp>
                  <p:nvSpPr>
                    <p:cNvPr id="882" name=""/>
                    <p:cNvSpPr/>
                    <p:nvPr/>
                  </p:nvSpPr>
                  <p:spPr>
                    <a:xfrm rot="21169800">
                      <a:off x="460080" y="42724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 rot="21169800">
                      <a:off x="846000" y="42238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 rot="21169800">
                      <a:off x="1233000" y="41752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 rot="21169800">
                      <a:off x="1620000" y="41266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1975680" y="3922920"/>
                    <a:ext cx="1607040" cy="679320"/>
                    <a:chOff x="1975680" y="3922920"/>
                    <a:chExt cx="1607040" cy="67932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 rot="21169800">
                      <a:off x="2004480" y="409068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rot="21169800">
                      <a:off x="2390400" y="404208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 rot="21169800">
                      <a:off x="2777040" y="399348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 rot="21169800">
                      <a:off x="3164040" y="394524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3522960" y="3745800"/>
                    <a:ext cx="1607400" cy="679320"/>
                    <a:chOff x="3522960" y="3745800"/>
                    <a:chExt cx="1607400" cy="67932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 rot="21169800">
                      <a:off x="3551760" y="391392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rot="21169800">
                      <a:off x="3937680" y="386532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rot="21169800">
                      <a:off x="4324680" y="381636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 rot="21169800">
                      <a:off x="4711680" y="376812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6" name=""/>
                <p:cNvSpPr/>
                <p:nvPr/>
              </p:nvSpPr>
              <p:spPr>
                <a:xfrm>
                  <a:off x="471600" y="3576600"/>
                  <a:ext cx="0" cy="799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7" name=""/>
            <p:cNvSpPr/>
            <p:nvPr/>
          </p:nvSpPr>
          <p:spPr>
            <a:xfrm>
              <a:off x="0" y="320040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0" y="42512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079960" y="3765600"/>
              <a:ext cx="4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Black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5524560" y="1366920"/>
            <a:ext cx="327816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ve trains AP &amp; BP have travelled the same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(same number of 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’s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64400" y="635040"/>
            <a:ext cx="5362200" cy="459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uming the sources are co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594400" y="3429000"/>
            <a:ext cx="3209760" cy="1922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Hence waves 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in-phase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TRU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(Bright fri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7F8-6907-4F87-AA58-9A2A4504A57F}" type="slidenum">
              <a:t>11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829440" y="2045160"/>
            <a:ext cx="4455360" cy="1238760"/>
            <a:chOff x="829440" y="2045160"/>
            <a:chExt cx="4455360" cy="1238760"/>
          </a:xfrm>
        </p:grpSpPr>
        <p:grpSp>
          <p:nvGrpSpPr>
            <p:cNvPr id="904" name=""/>
            <p:cNvGrpSpPr/>
            <p:nvPr/>
          </p:nvGrpSpPr>
          <p:grpSpPr>
            <a:xfrm>
              <a:off x="829440" y="2045160"/>
              <a:ext cx="4365720" cy="1238760"/>
              <a:chOff x="829440" y="2045160"/>
              <a:chExt cx="4365720" cy="1238760"/>
            </a:xfrm>
          </p:grpSpPr>
          <p:grpSp>
            <p:nvGrpSpPr>
              <p:cNvPr id="905" name=""/>
              <p:cNvGrpSpPr/>
              <p:nvPr/>
            </p:nvGrpSpPr>
            <p:grpSpPr>
              <a:xfrm>
                <a:off x="829440" y="2529720"/>
                <a:ext cx="1512360" cy="754200"/>
                <a:chOff x="829440" y="2529720"/>
                <a:chExt cx="1512360" cy="754200"/>
              </a:xfrm>
            </p:grpSpPr>
            <p:sp>
              <p:nvSpPr>
                <p:cNvPr id="906" name=""/>
                <p:cNvSpPr/>
                <p:nvPr/>
              </p:nvSpPr>
              <p:spPr>
                <a:xfrm rot="20944800">
                  <a:off x="872280" y="276516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rot="20944800">
                  <a:off x="1226880" y="269640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rot="20944800">
                  <a:off x="1581840" y="262800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20944800">
                  <a:off x="1937160" y="255924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54680" y="2285280"/>
                <a:ext cx="1512000" cy="754200"/>
                <a:chOff x="2254680" y="2285280"/>
                <a:chExt cx="1512000" cy="754200"/>
              </a:xfrm>
            </p:grpSpPr>
            <p:sp>
              <p:nvSpPr>
                <p:cNvPr id="911" name=""/>
                <p:cNvSpPr/>
                <p:nvPr/>
              </p:nvSpPr>
              <p:spPr>
                <a:xfrm rot="20944800">
                  <a:off x="2297520" y="2520360"/>
                  <a:ext cx="36144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20944800">
                  <a:off x="2652120" y="2451600"/>
                  <a:ext cx="36144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rot="20944800">
                  <a:off x="3007080" y="2383200"/>
                  <a:ext cx="36144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rot="20944800">
                  <a:off x="3362040" y="2314800"/>
                  <a:ext cx="36144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3682800" y="2045160"/>
                <a:ext cx="1512360" cy="753840"/>
                <a:chOff x="3682800" y="2045160"/>
                <a:chExt cx="1512360" cy="753840"/>
              </a:xfrm>
            </p:grpSpPr>
            <p:sp>
              <p:nvSpPr>
                <p:cNvPr id="916" name=""/>
                <p:cNvSpPr/>
                <p:nvPr/>
              </p:nvSpPr>
              <p:spPr>
                <a:xfrm rot="20944800">
                  <a:off x="3725640" y="228024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20944800">
                  <a:off x="4080240" y="221184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20944800">
                  <a:off x="4435200" y="214308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rot="20944800">
                  <a:off x="4790520" y="207468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0" name=""/>
            <p:cNvSpPr/>
            <p:nvPr/>
          </p:nvSpPr>
          <p:spPr>
            <a:xfrm flipV="1">
              <a:off x="878040" y="2266560"/>
              <a:ext cx="4406760" cy="8031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795240" y="2079720"/>
            <a:ext cx="4589640" cy="2104200"/>
            <a:chOff x="795240" y="2079720"/>
            <a:chExt cx="4589640" cy="2104200"/>
          </a:xfrm>
        </p:grpSpPr>
        <p:grpSp>
          <p:nvGrpSpPr>
            <p:cNvPr id="922" name=""/>
            <p:cNvGrpSpPr/>
            <p:nvPr/>
          </p:nvGrpSpPr>
          <p:grpSpPr>
            <a:xfrm>
              <a:off x="795240" y="2079720"/>
              <a:ext cx="4589640" cy="2104200"/>
              <a:chOff x="795240" y="2079720"/>
              <a:chExt cx="4589640" cy="2104200"/>
            </a:xfrm>
          </p:grpSpPr>
          <p:grpSp>
            <p:nvGrpSpPr>
              <p:cNvPr id="923" name=""/>
              <p:cNvGrpSpPr/>
              <p:nvPr/>
            </p:nvGrpSpPr>
            <p:grpSpPr>
              <a:xfrm>
                <a:off x="795240" y="3195360"/>
                <a:ext cx="1523160" cy="988560"/>
                <a:chOff x="795240" y="3195360"/>
                <a:chExt cx="1523160" cy="988560"/>
              </a:xfrm>
            </p:grpSpPr>
            <p:sp>
              <p:nvSpPr>
                <p:cNvPr id="924" name=""/>
                <p:cNvSpPr/>
                <p:nvPr/>
              </p:nvSpPr>
              <p:spPr>
                <a:xfrm rot="20203200">
                  <a:off x="868320" y="3683880"/>
                  <a:ext cx="36648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rot="20203200">
                  <a:off x="1204920" y="353916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rot="20203200">
                  <a:off x="1542240" y="339444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rot="20203200">
                  <a:off x="1878840" y="3249360"/>
                  <a:ext cx="36648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2155680" y="2693160"/>
                <a:ext cx="1523880" cy="989640"/>
                <a:chOff x="2155680" y="2693160"/>
                <a:chExt cx="1523880" cy="989640"/>
              </a:xfrm>
            </p:grpSpPr>
            <p:sp>
              <p:nvSpPr>
                <p:cNvPr id="929" name=""/>
                <p:cNvSpPr/>
                <p:nvPr/>
              </p:nvSpPr>
              <p:spPr>
                <a:xfrm rot="20203200">
                  <a:off x="2228760" y="318276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rot="20203200">
                  <a:off x="2565720" y="303768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rot="20203200">
                  <a:off x="2902680" y="289296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20203200">
                  <a:off x="3239640" y="274752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 rot="20203200">
                <a:off x="3594240" y="2663640"/>
                <a:ext cx="366840" cy="4456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0203200">
                <a:off x="3930840" y="2532240"/>
                <a:ext cx="366840" cy="44604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0203200">
                <a:off x="4269240" y="2399400"/>
                <a:ext cx="365400" cy="44604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20203200">
                <a:off x="4605840" y="2269440"/>
                <a:ext cx="366840" cy="4456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20203200">
                <a:off x="4944240" y="2133720"/>
                <a:ext cx="367200" cy="44604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 flipV="1">
              <a:off x="855720" y="2311200"/>
              <a:ext cx="4432320" cy="16794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493560" y="793800"/>
            <a:ext cx="7359840" cy="74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en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 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 = (1/2) 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e waves arrive at P in antiphase to produce a minimum or a dark fri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71400" y="2649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at happens a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24640" y="1606680"/>
            <a:ext cx="5612040" cy="3403440"/>
            <a:chOff x="224640" y="1606680"/>
            <a:chExt cx="5612040" cy="3403440"/>
          </a:xfrm>
        </p:grpSpPr>
        <p:sp>
          <p:nvSpPr>
            <p:cNvPr id="942" name=""/>
            <p:cNvSpPr/>
            <p:nvPr/>
          </p:nvSpPr>
          <p:spPr>
            <a:xfrm>
              <a:off x="839880" y="2224080"/>
              <a:ext cx="0" cy="80028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8080" y="4133880"/>
              <a:ext cx="0" cy="799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88040" y="1606680"/>
              <a:ext cx="174600" cy="340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24640" y="2671920"/>
              <a:ext cx="53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24640" y="3713040"/>
              <a:ext cx="53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19800" y="2054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7800" y="3139920"/>
              <a:ext cx="0" cy="8985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4707000" y="308916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5764320" y="2838600"/>
                <a:ext cx="2955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1" name=""/>
          <p:cNvSpPr/>
          <p:nvPr/>
        </p:nvSpPr>
        <p:spPr>
          <a:xfrm>
            <a:off x="5730840" y="1657440"/>
            <a:ext cx="31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general condition for a minimum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357800" y="4214880"/>
            <a:ext cx="414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Where n = 0, 1, 2, 3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EB2-BA25-4E9A-B74B-59A88529A05F}" type="slidenum">
              <a:t>12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2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"/>
          <p:cNvGrpSpPr/>
          <p:nvPr/>
        </p:nvGrpSpPr>
        <p:grpSpPr>
          <a:xfrm>
            <a:off x="840240" y="2121120"/>
            <a:ext cx="4087080" cy="1153800"/>
            <a:chOff x="840240" y="2121120"/>
            <a:chExt cx="4087080" cy="1153800"/>
          </a:xfrm>
        </p:grpSpPr>
        <p:grpSp>
          <p:nvGrpSpPr>
            <p:cNvPr id="954" name=""/>
            <p:cNvGrpSpPr/>
            <p:nvPr/>
          </p:nvGrpSpPr>
          <p:grpSpPr>
            <a:xfrm>
              <a:off x="840240" y="2121120"/>
              <a:ext cx="4087080" cy="1153800"/>
              <a:chOff x="840240" y="2121120"/>
              <a:chExt cx="4087080" cy="115380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840240" y="2539800"/>
                <a:ext cx="1415880" cy="735120"/>
                <a:chOff x="840240" y="2539800"/>
                <a:chExt cx="1415880" cy="735120"/>
              </a:xfrm>
            </p:grpSpPr>
            <p:sp>
              <p:nvSpPr>
                <p:cNvPr id="956" name=""/>
                <p:cNvSpPr/>
                <p:nvPr/>
              </p:nvSpPr>
              <p:spPr>
                <a:xfrm rot="20944800">
                  <a:off x="883440" y="275868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rot="20944800">
                  <a:off x="1214280" y="269460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rot="20944800">
                  <a:off x="1545120" y="263088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rot="20944800">
                  <a:off x="1875960" y="256716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2174400" y="2328120"/>
                <a:ext cx="1415880" cy="735480"/>
                <a:chOff x="2174400" y="2328120"/>
                <a:chExt cx="1415880" cy="735480"/>
              </a:xfrm>
            </p:grpSpPr>
            <p:sp>
              <p:nvSpPr>
                <p:cNvPr id="961" name=""/>
                <p:cNvSpPr/>
                <p:nvPr/>
              </p:nvSpPr>
              <p:spPr>
                <a:xfrm rot="20944800">
                  <a:off x="2217600" y="2547000"/>
                  <a:ext cx="33660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rot="20944800">
                  <a:off x="2548080" y="2482920"/>
                  <a:ext cx="33696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rot="20944800">
                  <a:off x="2878920" y="2419200"/>
                  <a:ext cx="33696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rot="20944800">
                  <a:off x="3210120" y="2355480"/>
                  <a:ext cx="33660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3511080" y="2121120"/>
                <a:ext cx="1416240" cy="735120"/>
                <a:chOff x="3511080" y="2121120"/>
                <a:chExt cx="1416240" cy="735120"/>
              </a:xfrm>
            </p:grpSpPr>
            <p:sp>
              <p:nvSpPr>
                <p:cNvPr id="966" name=""/>
                <p:cNvSpPr/>
                <p:nvPr/>
              </p:nvSpPr>
              <p:spPr>
                <a:xfrm rot="20944800">
                  <a:off x="3554280" y="234000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rot="20944800">
                  <a:off x="3885480" y="227592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rot="20944800">
                  <a:off x="4215960" y="221220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rot="20944800">
                  <a:off x="4547160" y="214848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0" name=""/>
            <p:cNvSpPr/>
            <p:nvPr/>
          </p:nvSpPr>
          <p:spPr>
            <a:xfrm flipV="1">
              <a:off x="876240" y="2390400"/>
              <a:ext cx="4021200" cy="6793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98480" y="2271600"/>
            <a:ext cx="4164840" cy="1850040"/>
            <a:chOff x="798480" y="2271600"/>
            <a:chExt cx="4164840" cy="1850040"/>
          </a:xfrm>
        </p:grpSpPr>
        <p:grpSp>
          <p:nvGrpSpPr>
            <p:cNvPr id="972" name=""/>
            <p:cNvGrpSpPr/>
            <p:nvPr/>
          </p:nvGrpSpPr>
          <p:grpSpPr>
            <a:xfrm>
              <a:off x="798480" y="2271600"/>
              <a:ext cx="4164840" cy="1850040"/>
              <a:chOff x="798480" y="2271600"/>
              <a:chExt cx="4164840" cy="185004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798480" y="3238560"/>
                <a:ext cx="1377360" cy="883080"/>
                <a:chOff x="798480" y="3238560"/>
                <a:chExt cx="1377360" cy="883080"/>
              </a:xfrm>
            </p:grpSpPr>
            <p:sp>
              <p:nvSpPr>
                <p:cNvPr id="974" name=""/>
                <p:cNvSpPr/>
                <p:nvPr/>
              </p:nvSpPr>
              <p:spPr>
                <a:xfrm rot="20203200">
                  <a:off x="861480" y="368388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rot="20203200">
                  <a:off x="1167120" y="355212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20203200">
                  <a:off x="1473480" y="342036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20203200">
                  <a:off x="1779840" y="328860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2035080" y="2800440"/>
                <a:ext cx="1377360" cy="883080"/>
                <a:chOff x="2035080" y="2800440"/>
                <a:chExt cx="1377360" cy="883080"/>
              </a:xfrm>
            </p:grpSpPr>
            <p:sp>
              <p:nvSpPr>
                <p:cNvPr id="979" name=""/>
                <p:cNvSpPr/>
                <p:nvPr/>
              </p:nvSpPr>
              <p:spPr>
                <a:xfrm rot="20203200">
                  <a:off x="2098080" y="324576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20203200">
                  <a:off x="2403720" y="3114000"/>
                  <a:ext cx="33336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rot="20203200">
                  <a:off x="2710080" y="2982240"/>
                  <a:ext cx="33336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20203200">
                  <a:off x="3016440" y="285048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3" name=""/>
              <p:cNvSpPr/>
              <p:nvPr/>
            </p:nvSpPr>
            <p:spPr>
              <a:xfrm rot="20203200">
                <a:off x="3339000" y="2784600"/>
                <a:ext cx="333360" cy="38772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20203200">
                <a:off x="3645000" y="2669400"/>
                <a:ext cx="333360" cy="3880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20203200">
                <a:off x="3952800" y="2553480"/>
                <a:ext cx="331920" cy="3880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20203200">
                <a:off x="4259160" y="2440080"/>
                <a:ext cx="333360" cy="38772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20203200">
                <a:off x="4566240" y="2321280"/>
                <a:ext cx="333720" cy="3880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 flipV="1">
              <a:off x="828720" y="2398680"/>
              <a:ext cx="4070160" cy="155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493560" y="793800"/>
            <a:ext cx="7129440" cy="74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en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 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 =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e waves arrive at P in phase to produce a maximum intensity or a bright fri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71400" y="2649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at happens a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792680" y="1693800"/>
            <a:ext cx="174600" cy="34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240480" y="2141640"/>
            <a:ext cx="5101200" cy="2720880"/>
            <a:chOff x="240480" y="2141640"/>
            <a:chExt cx="5101200" cy="2720880"/>
          </a:xfrm>
        </p:grpSpPr>
        <p:sp>
          <p:nvSpPr>
            <p:cNvPr id="993" name=""/>
            <p:cNvSpPr/>
            <p:nvPr/>
          </p:nvSpPr>
          <p:spPr>
            <a:xfrm>
              <a:off x="836640" y="4062240"/>
              <a:ext cx="0" cy="80028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240480" y="2141640"/>
              <a:ext cx="5101200" cy="2149560"/>
              <a:chOff x="240480" y="2141640"/>
              <a:chExt cx="5101200" cy="2149560"/>
            </a:xfrm>
          </p:grpSpPr>
          <p:sp>
            <p:nvSpPr>
              <p:cNvPr id="995" name=""/>
              <p:cNvSpPr/>
              <p:nvPr/>
            </p:nvSpPr>
            <p:spPr>
              <a:xfrm>
                <a:off x="820800" y="2257560"/>
                <a:ext cx="0" cy="799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40480" y="2857680"/>
                <a:ext cx="531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GB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40480" y="3711600"/>
                <a:ext cx="531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GB" sz="2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24800" y="2141640"/>
                <a:ext cx="4168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28720" y="3209760"/>
                <a:ext cx="0" cy="6685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07000" y="3089160"/>
                <a:ext cx="290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1" name=""/>
          <p:cNvSpPr/>
          <p:nvPr/>
        </p:nvSpPr>
        <p:spPr>
          <a:xfrm>
            <a:off x="5730840" y="1657440"/>
            <a:ext cx="31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general condition for a maximum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357800" y="4214880"/>
            <a:ext cx="414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Where n = 0, 1, 2, 3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5703840" y="2865600"/>
                <a:ext cx="2727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n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C62-B5DD-4B09-9591-B74B0F0A22D4}" type="slidenum">
              <a:t>13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1063800" y="2408400"/>
            <a:ext cx="46688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6022800" y="787680"/>
            <a:ext cx="952560" cy="3417480"/>
            <a:chOff x="6022800" y="787680"/>
            <a:chExt cx="952560" cy="3417480"/>
          </a:xfrm>
        </p:grpSpPr>
        <p:sp>
          <p:nvSpPr>
            <p:cNvPr id="1006" name=""/>
            <p:cNvSpPr/>
            <p:nvPr/>
          </p:nvSpPr>
          <p:spPr>
            <a:xfrm rot="16200000">
              <a:off x="4790160" y="2019960"/>
              <a:ext cx="3417480" cy="9525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16200000">
              <a:off x="6453000" y="3091680"/>
              <a:ext cx="115560" cy="254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16200000">
              <a:off x="6450480" y="2692440"/>
              <a:ext cx="115560" cy="253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6200000">
              <a:off x="6456960" y="2211840"/>
              <a:ext cx="115920" cy="254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6200000">
              <a:off x="6453720" y="2027520"/>
              <a:ext cx="115560" cy="253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16200000">
              <a:off x="6449760" y="2914200"/>
              <a:ext cx="115560" cy="253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16200000">
              <a:off x="6423120" y="2461680"/>
              <a:ext cx="172440" cy="244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16200000">
              <a:off x="6452280" y="1783080"/>
              <a:ext cx="115560" cy="253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03320" y="1689480"/>
              <a:ext cx="2358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400080" y="3451680"/>
              <a:ext cx="236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00080" y="1398960"/>
              <a:ext cx="236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00080" y="3754440"/>
              <a:ext cx="236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6200000">
              <a:off x="6467760" y="999720"/>
              <a:ext cx="115560" cy="253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6200000">
              <a:off x="6466680" y="3845520"/>
              <a:ext cx="115560" cy="254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122640" y="2205000"/>
            <a:ext cx="5652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382680" y="574560"/>
            <a:ext cx="5646600" cy="4002120"/>
            <a:chOff x="382680" y="574560"/>
            <a:chExt cx="5646600" cy="4002120"/>
          </a:xfrm>
        </p:grpSpPr>
        <p:sp>
          <p:nvSpPr>
            <p:cNvPr id="1022" name=""/>
            <p:cNvSpPr/>
            <p:nvPr/>
          </p:nvSpPr>
          <p:spPr>
            <a:xfrm>
              <a:off x="5730840" y="782640"/>
              <a:ext cx="298440" cy="340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44720" y="1003320"/>
              <a:ext cx="0" cy="799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044720" y="3089160"/>
              <a:ext cx="0" cy="80028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36800" y="2025720"/>
              <a:ext cx="0" cy="799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68880" y="4056120"/>
              <a:ext cx="15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5203800" y="3668400"/>
              <a:ext cx="669960" cy="476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82680" y="574560"/>
              <a:ext cx="15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Sli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"/>
          <p:cNvSpPr/>
          <p:nvPr/>
        </p:nvSpPr>
        <p:spPr>
          <a:xfrm flipV="1">
            <a:off x="458640" y="1922400"/>
            <a:ext cx="0" cy="24768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9800" y="2620800"/>
            <a:ext cx="0" cy="24768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8760" y="209880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 Black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3920" y="390852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 Black"/>
              </a:rPr>
              <a:t>s = slit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6661080" y="2170080"/>
            <a:ext cx="943200" cy="169920"/>
            <a:chOff x="6661080" y="2170080"/>
            <a:chExt cx="943200" cy="169920"/>
          </a:xfrm>
        </p:grpSpPr>
        <p:sp>
          <p:nvSpPr>
            <p:cNvPr id="1034" name=""/>
            <p:cNvSpPr/>
            <p:nvPr/>
          </p:nvSpPr>
          <p:spPr>
            <a:xfrm flipH="1">
              <a:off x="6667560" y="21700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6661080" y="234000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261040" y="467820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w = fringe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446040" y="1927080"/>
            <a:ext cx="571680" cy="993960"/>
            <a:chOff x="446040" y="1927080"/>
            <a:chExt cx="571680" cy="993960"/>
          </a:xfrm>
        </p:grpSpPr>
        <p:sp>
          <p:nvSpPr>
            <p:cNvPr id="1038" name=""/>
            <p:cNvSpPr/>
            <p:nvPr/>
          </p:nvSpPr>
          <p:spPr>
            <a:xfrm flipH="1">
              <a:off x="452520" y="2921040"/>
              <a:ext cx="565200" cy="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446040" y="1927080"/>
              <a:ext cx="565200" cy="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 flipV="1">
            <a:off x="8574120" y="2238120"/>
            <a:ext cx="0" cy="2469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7550280" y="2239920"/>
            <a:ext cx="10238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2678040" y="4749840"/>
                <a:ext cx="189540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876-8ADF-40EE-8DF7-B5B1BCC3D1FD}" type="slidenum">
              <a:t>14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OG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4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698400" cy="966960"/>
          </a:xfrm>
          <a:prstGeom prst="rect">
            <a:avLst/>
          </a:prstGeom>
          <a:ln w="0">
            <a:noFill/>
          </a:ln>
        </p:spPr>
      </p:pic>
      <p:grpSp>
        <p:nvGrpSpPr>
          <p:cNvPr id="1044" name=""/>
          <p:cNvGrpSpPr/>
          <p:nvPr/>
        </p:nvGrpSpPr>
        <p:grpSpPr>
          <a:xfrm>
            <a:off x="3073320" y="928800"/>
            <a:ext cx="1535040" cy="126720"/>
            <a:chOff x="3073320" y="928800"/>
            <a:chExt cx="1535040" cy="126720"/>
          </a:xfrm>
        </p:grpSpPr>
        <p:sp>
          <p:nvSpPr>
            <p:cNvPr id="1045" name=""/>
            <p:cNvSpPr/>
            <p:nvPr/>
          </p:nvSpPr>
          <p:spPr>
            <a:xfrm flipV="1">
              <a:off x="3073320" y="94104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3809520" y="93528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 rot="10800000">
              <a:off x="3408840" y="930240"/>
              <a:ext cx="403920" cy="10728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4110120" y="947880"/>
              <a:ext cx="38484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073320" y="928800"/>
              <a:ext cx="1535040" cy="126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3791880" y="95544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017960" y="911160"/>
            <a:ext cx="1535040" cy="127080"/>
            <a:chOff x="4017960" y="911160"/>
            <a:chExt cx="1535040" cy="127080"/>
          </a:xfrm>
        </p:grpSpPr>
        <p:sp>
          <p:nvSpPr>
            <p:cNvPr id="1052" name=""/>
            <p:cNvSpPr/>
            <p:nvPr/>
          </p:nvSpPr>
          <p:spPr>
            <a:xfrm flipV="1">
              <a:off x="4017960" y="92340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754160" y="91764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 rot="10800000">
              <a:off x="4353480" y="91152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5054760" y="92988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017960" y="911160"/>
              <a:ext cx="153504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flipV="1">
              <a:off x="4736520" y="93780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5834160" y="911160"/>
            <a:ext cx="1535040" cy="127080"/>
            <a:chOff x="5834160" y="911160"/>
            <a:chExt cx="1535040" cy="127080"/>
          </a:xfrm>
        </p:grpSpPr>
        <p:sp>
          <p:nvSpPr>
            <p:cNvPr id="1059" name=""/>
            <p:cNvSpPr/>
            <p:nvPr/>
          </p:nvSpPr>
          <p:spPr>
            <a:xfrm flipV="1">
              <a:off x="5834160" y="92340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6570360" y="91764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 rot="10800000">
              <a:off x="6169680" y="91152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6870960" y="92988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834160" y="911160"/>
              <a:ext cx="153504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6552720" y="93780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407880" y="900000"/>
            <a:ext cx="1535400" cy="127080"/>
            <a:chOff x="407880" y="900000"/>
            <a:chExt cx="1535400" cy="127080"/>
          </a:xfrm>
        </p:grpSpPr>
        <p:sp>
          <p:nvSpPr>
            <p:cNvPr id="1066" name=""/>
            <p:cNvSpPr/>
            <p:nvPr/>
          </p:nvSpPr>
          <p:spPr>
            <a:xfrm flipV="1">
              <a:off x="407880" y="912240"/>
              <a:ext cx="34704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1144440" y="90648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 rot="10800000">
              <a:off x="743760" y="90036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1445040" y="91872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7880" y="900000"/>
              <a:ext cx="153540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1126800" y="92664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7608960" y="917640"/>
            <a:ext cx="1535040" cy="127080"/>
            <a:chOff x="7608960" y="917640"/>
            <a:chExt cx="1535040" cy="127080"/>
          </a:xfrm>
        </p:grpSpPr>
        <p:sp>
          <p:nvSpPr>
            <p:cNvPr id="1073" name=""/>
            <p:cNvSpPr/>
            <p:nvPr/>
          </p:nvSpPr>
          <p:spPr>
            <a:xfrm flipV="1">
              <a:off x="7608960" y="92988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345160" y="92412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 rot="10800000">
              <a:off x="7944480" y="91800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645760" y="93636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08960" y="917640"/>
              <a:ext cx="153504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flipV="1">
              <a:off x="8327520" y="94428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0" y="2676600"/>
            <a:ext cx="698400" cy="966600"/>
          </a:xfrm>
          <a:prstGeom prst="rect">
            <a:avLst/>
          </a:prstGeom>
          <a:ln w="0">
            <a:noFill/>
          </a:ln>
        </p:spPr>
      </p:pic>
      <p:grpSp>
        <p:nvGrpSpPr>
          <p:cNvPr id="1080" name=""/>
          <p:cNvGrpSpPr/>
          <p:nvPr/>
        </p:nvGrpSpPr>
        <p:grpSpPr>
          <a:xfrm>
            <a:off x="9144000" y="2827440"/>
            <a:ext cx="1535040" cy="126720"/>
            <a:chOff x="9144000" y="2827440"/>
            <a:chExt cx="1535040" cy="126720"/>
          </a:xfrm>
        </p:grpSpPr>
        <p:sp>
          <p:nvSpPr>
            <p:cNvPr id="1081" name=""/>
            <p:cNvSpPr/>
            <p:nvPr/>
          </p:nvSpPr>
          <p:spPr>
            <a:xfrm flipV="1">
              <a:off x="9144000" y="283968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9880200" y="283392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 rot="10800000">
              <a:off x="9479520" y="2828880"/>
              <a:ext cx="403920" cy="10728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10180800" y="2846520"/>
              <a:ext cx="38484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9144000" y="2827440"/>
              <a:ext cx="1535040" cy="126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 flipV="1">
              <a:off x="9862560" y="285408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7608960" y="2809800"/>
            <a:ext cx="1535040" cy="127080"/>
            <a:chOff x="7608960" y="2809800"/>
            <a:chExt cx="1535040" cy="127080"/>
          </a:xfrm>
        </p:grpSpPr>
        <p:sp>
          <p:nvSpPr>
            <p:cNvPr id="1088" name=""/>
            <p:cNvSpPr/>
            <p:nvPr/>
          </p:nvSpPr>
          <p:spPr>
            <a:xfrm flipV="1">
              <a:off x="7608960" y="282204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8345160" y="281628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 rot="10800000">
              <a:off x="7944480" y="281016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8645760" y="282852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608960" y="2809800"/>
              <a:ext cx="153504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8327520" y="283644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4952880" y="2833560"/>
            <a:ext cx="1535400" cy="127080"/>
            <a:chOff x="4952880" y="2833560"/>
            <a:chExt cx="1535400" cy="127080"/>
          </a:xfrm>
        </p:grpSpPr>
        <p:sp>
          <p:nvSpPr>
            <p:cNvPr id="1095" name=""/>
            <p:cNvSpPr/>
            <p:nvPr/>
          </p:nvSpPr>
          <p:spPr>
            <a:xfrm flipV="1">
              <a:off x="4952880" y="2845800"/>
              <a:ext cx="34704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5689440" y="284004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 rot="10800000">
              <a:off x="5288760" y="283392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5990040" y="285228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952880" y="2833560"/>
              <a:ext cx="153540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5671800" y="286020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1284120" y="2816280"/>
            <a:ext cx="1535400" cy="127080"/>
            <a:chOff x="1284120" y="2816280"/>
            <a:chExt cx="1535400" cy="127080"/>
          </a:xfrm>
        </p:grpSpPr>
        <p:sp>
          <p:nvSpPr>
            <p:cNvPr id="1102" name=""/>
            <p:cNvSpPr/>
            <p:nvPr/>
          </p:nvSpPr>
          <p:spPr>
            <a:xfrm flipV="1">
              <a:off x="1284120" y="2828520"/>
              <a:ext cx="34704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020680" y="282276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 rot="10800000">
              <a:off x="1620000" y="281664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321280" y="283500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284120" y="2816280"/>
              <a:ext cx="153540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2003040" y="284292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2065320" y="1324080"/>
            <a:ext cx="50799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rmal light sources emit photons at random, so they are not coh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376280" y="4321080"/>
            <a:ext cx="1252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068640" y="5062680"/>
            <a:ext cx="1778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88800" y="4125960"/>
            <a:ext cx="8399520" cy="1616040"/>
            <a:chOff x="388800" y="4125960"/>
            <a:chExt cx="8399520" cy="1616040"/>
          </a:xfrm>
        </p:grpSpPr>
        <p:grpSp>
          <p:nvGrpSpPr>
            <p:cNvPr id="1112" name=""/>
            <p:cNvGrpSpPr/>
            <p:nvPr/>
          </p:nvGrpSpPr>
          <p:grpSpPr>
            <a:xfrm>
              <a:off x="388800" y="4125960"/>
              <a:ext cx="8353440" cy="406440"/>
              <a:chOff x="388800" y="4125960"/>
              <a:chExt cx="8353440" cy="406440"/>
            </a:xfrm>
          </p:grpSpPr>
          <p:sp>
            <p:nvSpPr>
              <p:cNvPr id="1113" name=""/>
              <p:cNvSpPr/>
              <p:nvPr/>
            </p:nvSpPr>
            <p:spPr>
              <a:xfrm>
                <a:off x="1616040" y="4175280"/>
                <a:ext cx="1203480" cy="2854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4" name=""/>
              <p:cNvGrpSpPr/>
              <p:nvPr/>
            </p:nvGrpSpPr>
            <p:grpSpPr>
              <a:xfrm>
                <a:off x="388800" y="4125960"/>
                <a:ext cx="8353440" cy="406440"/>
                <a:chOff x="388800" y="4125960"/>
                <a:chExt cx="8353440" cy="406440"/>
              </a:xfrm>
            </p:grpSpPr>
            <p:grpSp>
              <p:nvGrpSpPr>
                <p:cNvPr id="1115" name=""/>
                <p:cNvGrpSpPr/>
                <p:nvPr/>
              </p:nvGrpSpPr>
              <p:grpSpPr>
                <a:xfrm>
                  <a:off x="388800" y="4125960"/>
                  <a:ext cx="1198440" cy="406440"/>
                  <a:chOff x="388800" y="4125960"/>
                  <a:chExt cx="1198440" cy="40644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>
                    <a:off x="388800" y="4125960"/>
                    <a:ext cx="1090440" cy="406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Arial"/>
                      </a:rPr>
                      <a:t>LAS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1446120" y="4268880"/>
                    <a:ext cx="141120" cy="1224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8" name=""/>
                <p:cNvSpPr/>
                <p:nvPr/>
              </p:nvSpPr>
              <p:spPr>
                <a:xfrm>
                  <a:off x="2790720" y="418608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938760" y="4221000"/>
                  <a:ext cx="120312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138640" y="422100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6354720" y="422100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539120" y="4221000"/>
                  <a:ext cx="120312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"/>
            <p:cNvGrpSpPr/>
            <p:nvPr/>
          </p:nvGrpSpPr>
          <p:grpSpPr>
            <a:xfrm>
              <a:off x="434880" y="5335560"/>
              <a:ext cx="8353440" cy="406440"/>
              <a:chOff x="434880" y="5335560"/>
              <a:chExt cx="8353440" cy="406440"/>
            </a:xfrm>
          </p:grpSpPr>
          <p:sp>
            <p:nvSpPr>
              <p:cNvPr id="1124" name=""/>
              <p:cNvSpPr/>
              <p:nvPr/>
            </p:nvSpPr>
            <p:spPr>
              <a:xfrm>
                <a:off x="1662120" y="5384880"/>
                <a:ext cx="1203480" cy="2854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434880" y="5335560"/>
                <a:ext cx="8353440" cy="406440"/>
                <a:chOff x="434880" y="5335560"/>
                <a:chExt cx="8353440" cy="406440"/>
              </a:xfrm>
            </p:grpSpPr>
            <p:grpSp>
              <p:nvGrpSpPr>
                <p:cNvPr id="1126" name=""/>
                <p:cNvGrpSpPr/>
                <p:nvPr/>
              </p:nvGrpSpPr>
              <p:grpSpPr>
                <a:xfrm>
                  <a:off x="434880" y="5335560"/>
                  <a:ext cx="1198440" cy="406440"/>
                  <a:chOff x="434880" y="5335560"/>
                  <a:chExt cx="1198440" cy="40644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434880" y="5335560"/>
                    <a:ext cx="1090440" cy="406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Arial"/>
                      </a:rPr>
                      <a:t>LAS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492200" y="5478480"/>
                    <a:ext cx="141120" cy="1224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9" name=""/>
                <p:cNvSpPr/>
                <p:nvPr/>
              </p:nvSpPr>
              <p:spPr>
                <a:xfrm>
                  <a:off x="2836800" y="539568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84840" y="5430600"/>
                  <a:ext cx="120312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5184720" y="543060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400800" y="543060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585200" y="5430600"/>
                  <a:ext cx="120312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4" name=""/>
          <p:cNvSpPr/>
          <p:nvPr/>
        </p:nvSpPr>
        <p:spPr>
          <a:xfrm>
            <a:off x="1463760" y="4708440"/>
            <a:ext cx="6437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ASERS EMIT COHERENT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A5B-6205-4BA7-B588-D83F9577717A}" type="slidenum">
              <a:t>15</a:t>
            </a:fld>
          </a:p>
        </p:txBody>
      </p:sp>
    </p:spTree>
  </p:cSld>
  <p:transition spd="slow">
    <p:split dir="in" orient="horz"/>
    <p:sndAc>
      <p:stSnd>
        <p:snd r:embed="rId3" name="CAMERA.WAV"/>
      </p:stSnd>
    </p:sndAc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5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5360" y="2097000"/>
            <a:ext cx="3986280" cy="2666880"/>
            <a:chOff x="225360" y="2097000"/>
            <a:chExt cx="3986280" cy="2666880"/>
          </a:xfrm>
        </p:grpSpPr>
        <p:sp>
          <p:nvSpPr>
            <p:cNvPr id="46" name=""/>
            <p:cNvSpPr/>
            <p:nvPr/>
          </p:nvSpPr>
          <p:spPr>
            <a:xfrm>
              <a:off x="225360" y="3197160"/>
              <a:ext cx="111240" cy="234720"/>
            </a:xfrm>
            <a:custGeom>
              <a:avLst/>
              <a:gdLst/>
              <a:ahLst/>
              <a:rect l="l" t="t" r="r" b="b"/>
              <a:pathLst>
                <a:path w="70" h="148">
                  <a:moveTo>
                    <a:pt x="0" y="148"/>
                  </a:moveTo>
                  <a:lnTo>
                    <a:pt x="33" y="73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6600" y="2974680"/>
              <a:ext cx="111240" cy="222480"/>
            </a:xfrm>
            <a:custGeom>
              <a:avLst/>
              <a:gdLst/>
              <a:ahLst/>
              <a:rect l="l" t="t" r="r" b="b"/>
              <a:pathLst>
                <a:path w="70" h="140">
                  <a:moveTo>
                    <a:pt x="0" y="140"/>
                  </a:moveTo>
                  <a:lnTo>
                    <a:pt x="33" y="70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7840" y="2761920"/>
              <a:ext cx="109440" cy="212760"/>
            </a:xfrm>
            <a:custGeom>
              <a:avLst/>
              <a:gdLst/>
              <a:ahLst/>
              <a:rect l="l" t="t" r="r" b="b"/>
              <a:pathLst>
                <a:path w="69" h="134">
                  <a:moveTo>
                    <a:pt x="0" y="134"/>
                  </a:moveTo>
                  <a:lnTo>
                    <a:pt x="33" y="67"/>
                  </a:lnTo>
                  <a:lnTo>
                    <a:pt x="69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7280" y="2571480"/>
              <a:ext cx="111240" cy="190440"/>
            </a:xfrm>
            <a:custGeom>
              <a:avLst/>
              <a:gdLst/>
              <a:ahLst/>
              <a:rect l="l" t="t" r="r" b="b"/>
              <a:pathLst>
                <a:path w="70" h="120">
                  <a:moveTo>
                    <a:pt x="0" y="120"/>
                  </a:moveTo>
                  <a:lnTo>
                    <a:pt x="34" y="59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8520" y="2406600"/>
              <a:ext cx="110880" cy="164880"/>
            </a:xfrm>
            <a:custGeom>
              <a:avLst/>
              <a:gdLst/>
              <a:ahLst/>
              <a:rect l="l" t="t" r="r" b="b"/>
              <a:pathLst>
                <a:path w="70" h="104">
                  <a:moveTo>
                    <a:pt x="0" y="104"/>
                  </a:moveTo>
                  <a:lnTo>
                    <a:pt x="34" y="51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9400" y="227484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0" y="83"/>
                  </a:moveTo>
                  <a:lnTo>
                    <a:pt x="34" y="39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90640" y="2176200"/>
              <a:ext cx="111240" cy="986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62"/>
                  </a:moveTo>
                  <a:lnTo>
                    <a:pt x="33" y="28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01880" y="2118960"/>
              <a:ext cx="110880" cy="5724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0" y="36"/>
                  </a:moveTo>
                  <a:lnTo>
                    <a:pt x="33" y="14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12760" y="2097000"/>
              <a:ext cx="109800" cy="2196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0" y="14"/>
                  </a:moveTo>
                  <a:lnTo>
                    <a:pt x="33" y="2"/>
                  </a:lnTo>
                  <a:lnTo>
                    <a:pt x="69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22560" y="2097000"/>
              <a:ext cx="110880" cy="2196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0"/>
                  </a:moveTo>
                  <a:lnTo>
                    <a:pt x="34" y="2"/>
                  </a:lnTo>
                  <a:lnTo>
                    <a:pt x="70" y="14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33440" y="2118960"/>
              <a:ext cx="111240" cy="5724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0" y="0"/>
                  </a:moveTo>
                  <a:lnTo>
                    <a:pt x="34" y="14"/>
                  </a:lnTo>
                  <a:lnTo>
                    <a:pt x="70" y="36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4680" y="2176200"/>
              <a:ext cx="111240" cy="986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0"/>
                  </a:moveTo>
                  <a:lnTo>
                    <a:pt x="36" y="28"/>
                  </a:lnTo>
                  <a:lnTo>
                    <a:pt x="70" y="62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55920" y="2274840"/>
              <a:ext cx="106200" cy="131760"/>
            </a:xfrm>
            <a:custGeom>
              <a:avLst/>
              <a:gdLst/>
              <a:ahLst/>
              <a:rect l="l" t="t" r="r" b="b"/>
              <a:pathLst>
                <a:path w="67" h="83">
                  <a:moveTo>
                    <a:pt x="0" y="0"/>
                  </a:moveTo>
                  <a:lnTo>
                    <a:pt x="33" y="39"/>
                  </a:lnTo>
                  <a:lnTo>
                    <a:pt x="67" y="83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62120" y="2406600"/>
              <a:ext cx="111240" cy="164880"/>
            </a:xfrm>
            <a:custGeom>
              <a:avLst/>
              <a:gdLst/>
              <a:ahLst/>
              <a:rect l="l" t="t" r="r" b="b"/>
              <a:pathLst>
                <a:path w="70" h="104">
                  <a:moveTo>
                    <a:pt x="0" y="0"/>
                  </a:moveTo>
                  <a:lnTo>
                    <a:pt x="33" y="51"/>
                  </a:lnTo>
                  <a:lnTo>
                    <a:pt x="70" y="104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73360" y="2571480"/>
              <a:ext cx="110880" cy="190440"/>
            </a:xfrm>
            <a:custGeom>
              <a:avLst/>
              <a:gdLst/>
              <a:ahLst/>
              <a:rect l="l" t="t" r="r" b="b"/>
              <a:pathLst>
                <a:path w="70" h="120">
                  <a:moveTo>
                    <a:pt x="0" y="0"/>
                  </a:moveTo>
                  <a:lnTo>
                    <a:pt x="33" y="59"/>
                  </a:lnTo>
                  <a:lnTo>
                    <a:pt x="70" y="12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84240" y="2761920"/>
              <a:ext cx="109800" cy="212760"/>
            </a:xfrm>
            <a:custGeom>
              <a:avLst/>
              <a:gdLst/>
              <a:ahLst/>
              <a:rect l="l" t="t" r="r" b="b"/>
              <a:pathLst>
                <a:path w="69" h="134">
                  <a:moveTo>
                    <a:pt x="0" y="0"/>
                  </a:moveTo>
                  <a:lnTo>
                    <a:pt x="33" y="67"/>
                  </a:lnTo>
                  <a:lnTo>
                    <a:pt x="69" y="134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94040" y="2974680"/>
              <a:ext cx="110880" cy="222480"/>
            </a:xfrm>
            <a:custGeom>
              <a:avLst/>
              <a:gdLst/>
              <a:ahLst/>
              <a:rect l="l" t="t" r="r" b="b"/>
              <a:pathLst>
                <a:path w="70" h="140">
                  <a:moveTo>
                    <a:pt x="0" y="0"/>
                  </a:moveTo>
                  <a:lnTo>
                    <a:pt x="34" y="70"/>
                  </a:lnTo>
                  <a:lnTo>
                    <a:pt x="70" y="14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4920" y="3197160"/>
              <a:ext cx="111240" cy="234720"/>
            </a:xfrm>
            <a:custGeom>
              <a:avLst/>
              <a:gdLst/>
              <a:ahLst/>
              <a:rect l="l" t="t" r="r" b="b"/>
              <a:pathLst>
                <a:path w="70" h="148">
                  <a:moveTo>
                    <a:pt x="0" y="0"/>
                  </a:moveTo>
                  <a:lnTo>
                    <a:pt x="34" y="73"/>
                  </a:lnTo>
                  <a:lnTo>
                    <a:pt x="70" y="148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16160" y="3431880"/>
              <a:ext cx="111240" cy="2318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27400" y="3663720"/>
              <a:ext cx="110880" cy="2206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38280" y="3884400"/>
              <a:ext cx="111240" cy="214200"/>
            </a:xfrm>
            <a:custGeom>
              <a:avLst/>
              <a:gdLst/>
              <a:ahLst/>
              <a:rect l="l" t="t" r="r" b="b"/>
              <a:pathLst>
                <a:path w="70" h="135">
                  <a:moveTo>
                    <a:pt x="0" y="0"/>
                  </a:moveTo>
                  <a:lnTo>
                    <a:pt x="33" y="68"/>
                  </a:lnTo>
                  <a:lnTo>
                    <a:pt x="70" y="135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49520" y="4098600"/>
              <a:ext cx="109440" cy="19080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0" y="0"/>
                  </a:moveTo>
                  <a:lnTo>
                    <a:pt x="33" y="61"/>
                  </a:lnTo>
                  <a:lnTo>
                    <a:pt x="69" y="12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58960" y="428940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0" y="0"/>
                  </a:moveTo>
                  <a:lnTo>
                    <a:pt x="34" y="53"/>
                  </a:lnTo>
                  <a:lnTo>
                    <a:pt x="70" y="103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70200" y="4452840"/>
              <a:ext cx="111240" cy="13320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0" y="0"/>
                  </a:moveTo>
                  <a:lnTo>
                    <a:pt x="34" y="45"/>
                  </a:lnTo>
                  <a:lnTo>
                    <a:pt x="70" y="84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440" y="4586040"/>
              <a:ext cx="110880" cy="986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0"/>
                  </a:moveTo>
                  <a:lnTo>
                    <a:pt x="34" y="34"/>
                  </a:lnTo>
                  <a:lnTo>
                    <a:pt x="70" y="62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92320" y="46846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0" y="0"/>
                  </a:moveTo>
                  <a:lnTo>
                    <a:pt x="34" y="22"/>
                  </a:lnTo>
                  <a:lnTo>
                    <a:pt x="70" y="36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03560" y="4741560"/>
              <a:ext cx="111240" cy="2232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0"/>
                  </a:moveTo>
                  <a:lnTo>
                    <a:pt x="33" y="11"/>
                  </a:lnTo>
                  <a:lnTo>
                    <a:pt x="70" y="14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14800" y="4741560"/>
              <a:ext cx="109440" cy="2232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0" y="14"/>
                  </a:moveTo>
                  <a:lnTo>
                    <a:pt x="33" y="11"/>
                  </a:lnTo>
                  <a:lnTo>
                    <a:pt x="69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24240" y="46846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0" y="36"/>
                  </a:moveTo>
                  <a:lnTo>
                    <a:pt x="34" y="22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35480" y="4586040"/>
              <a:ext cx="110880" cy="986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62"/>
                  </a:moveTo>
                  <a:lnTo>
                    <a:pt x="34" y="34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46360" y="4449600"/>
              <a:ext cx="111240" cy="136440"/>
            </a:xfrm>
            <a:custGeom>
              <a:avLst/>
              <a:gdLst/>
              <a:ahLst/>
              <a:rect l="l" t="t" r="r" b="b"/>
              <a:pathLst>
                <a:path w="70" h="86">
                  <a:moveTo>
                    <a:pt x="0" y="86"/>
                  </a:moveTo>
                  <a:lnTo>
                    <a:pt x="17" y="67"/>
                  </a:lnTo>
                  <a:lnTo>
                    <a:pt x="34" y="44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57600" y="4284360"/>
              <a:ext cx="111240" cy="165240"/>
            </a:xfrm>
            <a:custGeom>
              <a:avLst/>
              <a:gdLst/>
              <a:ahLst/>
              <a:rect l="l" t="t" r="r" b="b"/>
              <a:pathLst>
                <a:path w="70" h="104">
                  <a:moveTo>
                    <a:pt x="0" y="104"/>
                  </a:moveTo>
                  <a:lnTo>
                    <a:pt x="34" y="53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68840" y="4098600"/>
              <a:ext cx="110880" cy="185760"/>
            </a:xfrm>
            <a:custGeom>
              <a:avLst/>
              <a:gdLst/>
              <a:ahLst/>
              <a:rect l="l" t="t" r="r" b="b"/>
              <a:pathLst>
                <a:path w="70" h="117">
                  <a:moveTo>
                    <a:pt x="0" y="117"/>
                  </a:moveTo>
                  <a:lnTo>
                    <a:pt x="33" y="61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79720" y="3884400"/>
              <a:ext cx="111240" cy="214200"/>
            </a:xfrm>
            <a:custGeom>
              <a:avLst/>
              <a:gdLst/>
              <a:ahLst/>
              <a:rect l="l" t="t" r="r" b="b"/>
              <a:pathLst>
                <a:path w="70" h="135">
                  <a:moveTo>
                    <a:pt x="0" y="135"/>
                  </a:moveTo>
                  <a:lnTo>
                    <a:pt x="33" y="70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90960" y="3659040"/>
              <a:ext cx="109440" cy="225360"/>
            </a:xfrm>
            <a:custGeom>
              <a:avLst/>
              <a:gdLst/>
              <a:ahLst/>
              <a:rect l="l" t="t" r="r" b="b"/>
              <a:pathLst>
                <a:path w="69" h="142">
                  <a:moveTo>
                    <a:pt x="0" y="142"/>
                  </a:moveTo>
                  <a:lnTo>
                    <a:pt x="33" y="73"/>
                  </a:lnTo>
                  <a:lnTo>
                    <a:pt x="69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100400" y="3428640"/>
              <a:ext cx="111240" cy="2304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28600" y="2543040"/>
            <a:ext cx="4343400" cy="1952640"/>
            <a:chOff x="228600" y="2543040"/>
            <a:chExt cx="4343400" cy="1952640"/>
          </a:xfrm>
        </p:grpSpPr>
        <p:sp>
          <p:nvSpPr>
            <p:cNvPr id="83" name=""/>
            <p:cNvSpPr/>
            <p:nvPr/>
          </p:nvSpPr>
          <p:spPr>
            <a:xfrm>
              <a:off x="228600" y="2543040"/>
              <a:ext cx="4343400" cy="1952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3152520"/>
              <a:ext cx="108360" cy="368640"/>
            </a:xfrm>
            <a:custGeom>
              <a:avLst/>
              <a:gdLst/>
              <a:ahLst/>
              <a:rect l="l" t="t" r="r" b="b"/>
              <a:pathLst>
                <a:path w="64" h="232">
                  <a:moveTo>
                    <a:pt x="0" y="232"/>
                  </a:moveTo>
                  <a:lnTo>
                    <a:pt x="15" y="172"/>
                  </a:lnTo>
                  <a:lnTo>
                    <a:pt x="31" y="112"/>
                  </a:lnTo>
                  <a:lnTo>
                    <a:pt x="49" y="53"/>
                  </a:lnTo>
                  <a:lnTo>
                    <a:pt x="56" y="25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6960" y="2884320"/>
              <a:ext cx="109800" cy="26820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0" y="169"/>
                  </a:moveTo>
                  <a:lnTo>
                    <a:pt x="15" y="119"/>
                  </a:lnTo>
                  <a:lnTo>
                    <a:pt x="23" y="95"/>
                  </a:lnTo>
                  <a:lnTo>
                    <a:pt x="30" y="73"/>
                  </a:lnTo>
                  <a:lnTo>
                    <a:pt x="41" y="53"/>
                  </a:lnTo>
                  <a:lnTo>
                    <a:pt x="48" y="32"/>
                  </a:lnTo>
                  <a:lnTo>
                    <a:pt x="56" y="15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120" y="2786040"/>
              <a:ext cx="10692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62"/>
                  </a:moveTo>
                  <a:lnTo>
                    <a:pt x="15" y="38"/>
                  </a:lnTo>
                  <a:lnTo>
                    <a:pt x="22" y="28"/>
                  </a:lnTo>
                  <a:lnTo>
                    <a:pt x="30" y="17"/>
                  </a:lnTo>
                  <a:lnTo>
                    <a:pt x="40" y="10"/>
                  </a:lnTo>
                  <a:lnTo>
                    <a:pt x="48" y="5"/>
                  </a:lnTo>
                  <a:lnTo>
                    <a:pt x="56" y="2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4040" y="2786040"/>
              <a:ext cx="10872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0"/>
                  </a:moveTo>
                  <a:lnTo>
                    <a:pt x="8" y="2"/>
                  </a:lnTo>
                  <a:lnTo>
                    <a:pt x="16" y="5"/>
                  </a:lnTo>
                  <a:lnTo>
                    <a:pt x="23" y="10"/>
                  </a:lnTo>
                  <a:lnTo>
                    <a:pt x="31" y="17"/>
                  </a:lnTo>
                  <a:lnTo>
                    <a:pt x="41" y="28"/>
                  </a:lnTo>
                  <a:lnTo>
                    <a:pt x="49" y="38"/>
                  </a:lnTo>
                  <a:lnTo>
                    <a:pt x="64" y="6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760" y="2884320"/>
              <a:ext cx="108360" cy="26820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0" y="0"/>
                  </a:moveTo>
                  <a:lnTo>
                    <a:pt x="8" y="15"/>
                  </a:lnTo>
                  <a:lnTo>
                    <a:pt x="15" y="32"/>
                  </a:lnTo>
                  <a:lnTo>
                    <a:pt x="23" y="53"/>
                  </a:lnTo>
                  <a:lnTo>
                    <a:pt x="30" y="73"/>
                  </a:lnTo>
                  <a:lnTo>
                    <a:pt x="41" y="95"/>
                  </a:lnTo>
                  <a:lnTo>
                    <a:pt x="48" y="119"/>
                  </a:lnTo>
                  <a:lnTo>
                    <a:pt x="64" y="169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1120" y="3152520"/>
              <a:ext cx="106920" cy="368640"/>
            </a:xfrm>
            <a:custGeom>
              <a:avLst/>
              <a:gdLst/>
              <a:ahLst/>
              <a:rect l="l" t="t" r="r" b="b"/>
              <a:pathLst>
                <a:path w="63" h="232">
                  <a:moveTo>
                    <a:pt x="0" y="0"/>
                  </a:moveTo>
                  <a:lnTo>
                    <a:pt x="7" y="25"/>
                  </a:lnTo>
                  <a:lnTo>
                    <a:pt x="15" y="53"/>
                  </a:lnTo>
                  <a:lnTo>
                    <a:pt x="30" y="112"/>
                  </a:lnTo>
                  <a:lnTo>
                    <a:pt x="48" y="172"/>
                  </a:lnTo>
                  <a:lnTo>
                    <a:pt x="63" y="23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8400" y="3521160"/>
              <a:ext cx="109800" cy="36504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0"/>
                  </a:moveTo>
                  <a:lnTo>
                    <a:pt x="16" y="59"/>
                  </a:lnTo>
                  <a:lnTo>
                    <a:pt x="31" y="119"/>
                  </a:lnTo>
                  <a:lnTo>
                    <a:pt x="49" y="177"/>
                  </a:lnTo>
                  <a:lnTo>
                    <a:pt x="56" y="205"/>
                  </a:lnTo>
                  <a:lnTo>
                    <a:pt x="64" y="23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88200" y="3886200"/>
              <a:ext cx="108720" cy="26820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0" y="0"/>
                  </a:moveTo>
                  <a:lnTo>
                    <a:pt x="15" y="50"/>
                  </a:lnTo>
                  <a:lnTo>
                    <a:pt x="23" y="73"/>
                  </a:lnTo>
                  <a:lnTo>
                    <a:pt x="31" y="96"/>
                  </a:lnTo>
                  <a:lnTo>
                    <a:pt x="41" y="116"/>
                  </a:lnTo>
                  <a:lnTo>
                    <a:pt x="48" y="137"/>
                  </a:lnTo>
                  <a:lnTo>
                    <a:pt x="56" y="154"/>
                  </a:lnTo>
                  <a:lnTo>
                    <a:pt x="64" y="169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97280" y="4154400"/>
              <a:ext cx="10692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15" y="24"/>
                  </a:lnTo>
                  <a:lnTo>
                    <a:pt x="23" y="34"/>
                  </a:lnTo>
                  <a:lnTo>
                    <a:pt x="30" y="44"/>
                  </a:lnTo>
                  <a:lnTo>
                    <a:pt x="40" y="51"/>
                  </a:lnTo>
                  <a:lnTo>
                    <a:pt x="48" y="56"/>
                  </a:lnTo>
                  <a:lnTo>
                    <a:pt x="56" y="60"/>
                  </a:lnTo>
                  <a:lnTo>
                    <a:pt x="63" y="6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04200" y="4154400"/>
              <a:ext cx="10836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62"/>
                  </a:moveTo>
                  <a:lnTo>
                    <a:pt x="8" y="60"/>
                  </a:lnTo>
                  <a:lnTo>
                    <a:pt x="16" y="56"/>
                  </a:lnTo>
                  <a:lnTo>
                    <a:pt x="23" y="51"/>
                  </a:lnTo>
                  <a:lnTo>
                    <a:pt x="31" y="44"/>
                  </a:lnTo>
                  <a:lnTo>
                    <a:pt x="41" y="34"/>
                  </a:lnTo>
                  <a:lnTo>
                    <a:pt x="49" y="24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12560" y="3886200"/>
              <a:ext cx="109800" cy="26820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0" y="169"/>
                  </a:moveTo>
                  <a:lnTo>
                    <a:pt x="8" y="154"/>
                  </a:lnTo>
                  <a:lnTo>
                    <a:pt x="15" y="137"/>
                  </a:lnTo>
                  <a:lnTo>
                    <a:pt x="23" y="116"/>
                  </a:lnTo>
                  <a:lnTo>
                    <a:pt x="31" y="96"/>
                  </a:lnTo>
                  <a:lnTo>
                    <a:pt x="41" y="73"/>
                  </a:lnTo>
                  <a:lnTo>
                    <a:pt x="48" y="50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22720" y="3517920"/>
              <a:ext cx="106920" cy="368280"/>
            </a:xfrm>
            <a:custGeom>
              <a:avLst/>
              <a:gdLst/>
              <a:ahLst/>
              <a:rect l="l" t="t" r="r" b="b"/>
              <a:pathLst>
                <a:path w="63" h="232">
                  <a:moveTo>
                    <a:pt x="0" y="232"/>
                  </a:moveTo>
                  <a:lnTo>
                    <a:pt x="7" y="207"/>
                  </a:lnTo>
                  <a:lnTo>
                    <a:pt x="15" y="179"/>
                  </a:lnTo>
                  <a:lnTo>
                    <a:pt x="33" y="119"/>
                  </a:lnTo>
                  <a:lnTo>
                    <a:pt x="48" y="60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9640" y="3152520"/>
              <a:ext cx="104040" cy="365400"/>
            </a:xfrm>
            <a:custGeom>
              <a:avLst/>
              <a:gdLst/>
              <a:ahLst/>
              <a:rect l="l" t="t" r="r" b="b"/>
              <a:pathLst>
                <a:path w="61" h="230">
                  <a:moveTo>
                    <a:pt x="0" y="230"/>
                  </a:moveTo>
                  <a:lnTo>
                    <a:pt x="16" y="170"/>
                  </a:lnTo>
                  <a:lnTo>
                    <a:pt x="31" y="111"/>
                  </a:lnTo>
                  <a:lnTo>
                    <a:pt x="46" y="53"/>
                  </a:lnTo>
                  <a:lnTo>
                    <a:pt x="54" y="25"/>
                  </a:lnTo>
                  <a:lnTo>
                    <a:pt x="61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4040" y="2884320"/>
              <a:ext cx="108360" cy="26820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0" y="169"/>
                  </a:moveTo>
                  <a:lnTo>
                    <a:pt x="16" y="119"/>
                  </a:lnTo>
                  <a:lnTo>
                    <a:pt x="23" y="95"/>
                  </a:lnTo>
                  <a:lnTo>
                    <a:pt x="31" y="73"/>
                  </a:lnTo>
                  <a:lnTo>
                    <a:pt x="41" y="53"/>
                  </a:lnTo>
                  <a:lnTo>
                    <a:pt x="49" y="32"/>
                  </a:lnTo>
                  <a:lnTo>
                    <a:pt x="56" y="15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42400" y="2786040"/>
              <a:ext cx="10872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62"/>
                  </a:moveTo>
                  <a:lnTo>
                    <a:pt x="15" y="38"/>
                  </a:lnTo>
                  <a:lnTo>
                    <a:pt x="23" y="28"/>
                  </a:lnTo>
                  <a:lnTo>
                    <a:pt x="31" y="17"/>
                  </a:lnTo>
                  <a:lnTo>
                    <a:pt x="41" y="10"/>
                  </a:lnTo>
                  <a:lnTo>
                    <a:pt x="49" y="5"/>
                  </a:lnTo>
                  <a:lnTo>
                    <a:pt x="56" y="2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51120" y="2786040"/>
              <a:ext cx="10692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7" y="2"/>
                  </a:lnTo>
                  <a:lnTo>
                    <a:pt x="15" y="5"/>
                  </a:lnTo>
                  <a:lnTo>
                    <a:pt x="23" y="10"/>
                  </a:lnTo>
                  <a:lnTo>
                    <a:pt x="30" y="17"/>
                  </a:lnTo>
                  <a:lnTo>
                    <a:pt x="41" y="28"/>
                  </a:lnTo>
                  <a:lnTo>
                    <a:pt x="48" y="38"/>
                  </a:lnTo>
                  <a:lnTo>
                    <a:pt x="63" y="6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58400" y="2884320"/>
              <a:ext cx="109800" cy="270000"/>
            </a:xfrm>
            <a:custGeom>
              <a:avLst/>
              <a:gdLst/>
              <a:ahLst/>
              <a:rect l="l" t="t" r="r" b="b"/>
              <a:pathLst>
                <a:path w="64" h="170">
                  <a:moveTo>
                    <a:pt x="0" y="0"/>
                  </a:moveTo>
                  <a:lnTo>
                    <a:pt x="8" y="15"/>
                  </a:lnTo>
                  <a:lnTo>
                    <a:pt x="16" y="34"/>
                  </a:lnTo>
                  <a:lnTo>
                    <a:pt x="23" y="53"/>
                  </a:lnTo>
                  <a:lnTo>
                    <a:pt x="31" y="75"/>
                  </a:lnTo>
                  <a:lnTo>
                    <a:pt x="41" y="97"/>
                  </a:lnTo>
                  <a:lnTo>
                    <a:pt x="49" y="121"/>
                  </a:lnTo>
                  <a:lnTo>
                    <a:pt x="64" y="17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8560" y="3154320"/>
              <a:ext cx="108360" cy="366840"/>
            </a:xfrm>
            <a:custGeom>
              <a:avLst/>
              <a:gdLst/>
              <a:ahLst/>
              <a:rect l="l" t="t" r="r" b="b"/>
              <a:pathLst>
                <a:path w="64" h="231">
                  <a:moveTo>
                    <a:pt x="0" y="0"/>
                  </a:moveTo>
                  <a:lnTo>
                    <a:pt x="8" y="26"/>
                  </a:lnTo>
                  <a:lnTo>
                    <a:pt x="15" y="53"/>
                  </a:lnTo>
                  <a:lnTo>
                    <a:pt x="31" y="111"/>
                  </a:lnTo>
                  <a:lnTo>
                    <a:pt x="49" y="171"/>
                  </a:lnTo>
                  <a:lnTo>
                    <a:pt x="64" y="231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6920" y="3521160"/>
              <a:ext cx="108720" cy="36504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0"/>
                  </a:moveTo>
                  <a:lnTo>
                    <a:pt x="15" y="59"/>
                  </a:lnTo>
                  <a:lnTo>
                    <a:pt x="30" y="119"/>
                  </a:lnTo>
                  <a:lnTo>
                    <a:pt x="48" y="177"/>
                  </a:lnTo>
                  <a:lnTo>
                    <a:pt x="56" y="205"/>
                  </a:lnTo>
                  <a:lnTo>
                    <a:pt x="64" y="23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5640" y="3886200"/>
              <a:ext cx="10692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0"/>
                  </a:moveTo>
                  <a:lnTo>
                    <a:pt x="15" y="50"/>
                  </a:lnTo>
                  <a:lnTo>
                    <a:pt x="22" y="73"/>
                  </a:lnTo>
                  <a:lnTo>
                    <a:pt x="30" y="96"/>
                  </a:lnTo>
                  <a:lnTo>
                    <a:pt x="40" y="116"/>
                  </a:lnTo>
                  <a:lnTo>
                    <a:pt x="48" y="137"/>
                  </a:lnTo>
                  <a:lnTo>
                    <a:pt x="56" y="154"/>
                  </a:lnTo>
                  <a:lnTo>
                    <a:pt x="63" y="169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92560" y="4154400"/>
              <a:ext cx="10980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0"/>
                  </a:moveTo>
                  <a:lnTo>
                    <a:pt x="15" y="24"/>
                  </a:lnTo>
                  <a:lnTo>
                    <a:pt x="23" y="34"/>
                  </a:lnTo>
                  <a:lnTo>
                    <a:pt x="31" y="44"/>
                  </a:lnTo>
                  <a:lnTo>
                    <a:pt x="41" y="51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4" y="6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2720" y="4151160"/>
              <a:ext cx="10836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64"/>
                  </a:moveTo>
                  <a:lnTo>
                    <a:pt x="7" y="62"/>
                  </a:lnTo>
                  <a:lnTo>
                    <a:pt x="15" y="58"/>
                  </a:lnTo>
                  <a:lnTo>
                    <a:pt x="23" y="53"/>
                  </a:lnTo>
                  <a:lnTo>
                    <a:pt x="30" y="45"/>
                  </a:lnTo>
                  <a:lnTo>
                    <a:pt x="41" y="36"/>
                  </a:lnTo>
                  <a:lnTo>
                    <a:pt x="48" y="26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11080" y="3882960"/>
              <a:ext cx="10692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169"/>
                  </a:moveTo>
                  <a:lnTo>
                    <a:pt x="7" y="154"/>
                  </a:lnTo>
                  <a:lnTo>
                    <a:pt x="15" y="135"/>
                  </a:lnTo>
                  <a:lnTo>
                    <a:pt x="22" y="116"/>
                  </a:lnTo>
                  <a:lnTo>
                    <a:pt x="30" y="96"/>
                  </a:lnTo>
                  <a:lnTo>
                    <a:pt x="40" y="72"/>
                  </a:lnTo>
                  <a:lnTo>
                    <a:pt x="48" y="50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18360" y="3517920"/>
              <a:ext cx="108720" cy="36504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230"/>
                  </a:moveTo>
                  <a:lnTo>
                    <a:pt x="8" y="205"/>
                  </a:lnTo>
                  <a:lnTo>
                    <a:pt x="15" y="177"/>
                  </a:lnTo>
                  <a:lnTo>
                    <a:pt x="31" y="119"/>
                  </a:lnTo>
                  <a:lnTo>
                    <a:pt x="49" y="60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27080" y="3152520"/>
              <a:ext cx="109800" cy="36540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230"/>
                  </a:moveTo>
                  <a:lnTo>
                    <a:pt x="15" y="170"/>
                  </a:lnTo>
                  <a:lnTo>
                    <a:pt x="30" y="111"/>
                  </a:lnTo>
                  <a:lnTo>
                    <a:pt x="48" y="53"/>
                  </a:lnTo>
                  <a:lnTo>
                    <a:pt x="56" y="25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37240" y="2884320"/>
              <a:ext cx="10692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169"/>
                  </a:moveTo>
                  <a:lnTo>
                    <a:pt x="15" y="119"/>
                  </a:lnTo>
                  <a:lnTo>
                    <a:pt x="22" y="95"/>
                  </a:lnTo>
                  <a:lnTo>
                    <a:pt x="30" y="73"/>
                  </a:lnTo>
                  <a:lnTo>
                    <a:pt x="40" y="53"/>
                  </a:lnTo>
                  <a:lnTo>
                    <a:pt x="48" y="32"/>
                  </a:lnTo>
                  <a:lnTo>
                    <a:pt x="56" y="15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4160" y="2786040"/>
              <a:ext cx="10836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62"/>
                  </a:moveTo>
                  <a:lnTo>
                    <a:pt x="16" y="38"/>
                  </a:lnTo>
                  <a:lnTo>
                    <a:pt x="23" y="28"/>
                  </a:lnTo>
                  <a:lnTo>
                    <a:pt x="31" y="17"/>
                  </a:lnTo>
                  <a:lnTo>
                    <a:pt x="41" y="10"/>
                  </a:lnTo>
                  <a:lnTo>
                    <a:pt x="49" y="5"/>
                  </a:lnTo>
                  <a:lnTo>
                    <a:pt x="56" y="2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52520" y="2786040"/>
              <a:ext cx="1087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0" y="0"/>
                  </a:moveTo>
                  <a:lnTo>
                    <a:pt x="8" y="2"/>
                  </a:lnTo>
                  <a:lnTo>
                    <a:pt x="15" y="5"/>
                  </a:lnTo>
                  <a:lnTo>
                    <a:pt x="23" y="10"/>
                  </a:lnTo>
                  <a:lnTo>
                    <a:pt x="30" y="19"/>
                  </a:lnTo>
                  <a:lnTo>
                    <a:pt x="41" y="28"/>
                  </a:lnTo>
                  <a:lnTo>
                    <a:pt x="48" y="38"/>
                  </a:lnTo>
                  <a:lnTo>
                    <a:pt x="64" y="63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61240" y="2886120"/>
              <a:ext cx="10836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0"/>
                  </a:moveTo>
                  <a:lnTo>
                    <a:pt x="7" y="16"/>
                  </a:lnTo>
                  <a:lnTo>
                    <a:pt x="15" y="34"/>
                  </a:lnTo>
                  <a:lnTo>
                    <a:pt x="23" y="53"/>
                  </a:lnTo>
                  <a:lnTo>
                    <a:pt x="30" y="74"/>
                  </a:lnTo>
                  <a:lnTo>
                    <a:pt x="40" y="98"/>
                  </a:lnTo>
                  <a:lnTo>
                    <a:pt x="48" y="120"/>
                  </a:lnTo>
                  <a:lnTo>
                    <a:pt x="63" y="169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69600" y="3154320"/>
              <a:ext cx="108720" cy="366840"/>
            </a:xfrm>
            <a:custGeom>
              <a:avLst/>
              <a:gdLst/>
              <a:ahLst/>
              <a:rect l="l" t="t" r="r" b="b"/>
              <a:pathLst>
                <a:path w="64" h="231">
                  <a:moveTo>
                    <a:pt x="0" y="0"/>
                  </a:moveTo>
                  <a:lnTo>
                    <a:pt x="8" y="26"/>
                  </a:lnTo>
                  <a:lnTo>
                    <a:pt x="16" y="53"/>
                  </a:lnTo>
                  <a:lnTo>
                    <a:pt x="31" y="111"/>
                  </a:lnTo>
                  <a:lnTo>
                    <a:pt x="49" y="171"/>
                  </a:lnTo>
                  <a:lnTo>
                    <a:pt x="64" y="231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8320" y="3521160"/>
              <a:ext cx="108360" cy="36504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0"/>
                  </a:moveTo>
                  <a:lnTo>
                    <a:pt x="15" y="59"/>
                  </a:lnTo>
                  <a:lnTo>
                    <a:pt x="31" y="119"/>
                  </a:lnTo>
                  <a:lnTo>
                    <a:pt x="48" y="177"/>
                  </a:lnTo>
                  <a:lnTo>
                    <a:pt x="56" y="205"/>
                  </a:lnTo>
                  <a:lnTo>
                    <a:pt x="64" y="23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7040" y="3886200"/>
              <a:ext cx="10692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0"/>
                  </a:moveTo>
                  <a:lnTo>
                    <a:pt x="15" y="50"/>
                  </a:lnTo>
                  <a:lnTo>
                    <a:pt x="23" y="73"/>
                  </a:lnTo>
                  <a:lnTo>
                    <a:pt x="30" y="96"/>
                  </a:lnTo>
                  <a:lnTo>
                    <a:pt x="40" y="116"/>
                  </a:lnTo>
                  <a:lnTo>
                    <a:pt x="48" y="137"/>
                  </a:lnTo>
                  <a:lnTo>
                    <a:pt x="56" y="154"/>
                  </a:lnTo>
                  <a:lnTo>
                    <a:pt x="63" y="169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93960" y="4154400"/>
              <a:ext cx="10980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0"/>
                  </a:moveTo>
                  <a:lnTo>
                    <a:pt x="16" y="24"/>
                  </a:lnTo>
                  <a:lnTo>
                    <a:pt x="23" y="34"/>
                  </a:lnTo>
                  <a:lnTo>
                    <a:pt x="31" y="44"/>
                  </a:lnTo>
                  <a:lnTo>
                    <a:pt x="41" y="51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4" y="6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4120" y="4151160"/>
              <a:ext cx="1087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64"/>
                  </a:moveTo>
                  <a:lnTo>
                    <a:pt x="8" y="62"/>
                  </a:lnTo>
                  <a:lnTo>
                    <a:pt x="15" y="58"/>
                  </a:lnTo>
                  <a:lnTo>
                    <a:pt x="23" y="53"/>
                  </a:lnTo>
                  <a:lnTo>
                    <a:pt x="31" y="45"/>
                  </a:lnTo>
                  <a:lnTo>
                    <a:pt x="41" y="36"/>
                  </a:lnTo>
                  <a:lnTo>
                    <a:pt x="48" y="26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12840" y="3882960"/>
              <a:ext cx="10692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169"/>
                  </a:moveTo>
                  <a:lnTo>
                    <a:pt x="7" y="154"/>
                  </a:lnTo>
                  <a:lnTo>
                    <a:pt x="15" y="135"/>
                  </a:lnTo>
                  <a:lnTo>
                    <a:pt x="23" y="116"/>
                  </a:lnTo>
                  <a:lnTo>
                    <a:pt x="30" y="96"/>
                  </a:lnTo>
                  <a:lnTo>
                    <a:pt x="40" y="72"/>
                  </a:lnTo>
                  <a:lnTo>
                    <a:pt x="48" y="50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19760" y="3517920"/>
              <a:ext cx="108360" cy="36504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230"/>
                  </a:moveTo>
                  <a:lnTo>
                    <a:pt x="8" y="205"/>
                  </a:lnTo>
                  <a:lnTo>
                    <a:pt x="16" y="177"/>
                  </a:lnTo>
                  <a:lnTo>
                    <a:pt x="31" y="119"/>
                  </a:lnTo>
                  <a:lnTo>
                    <a:pt x="49" y="60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0960" y="1154160"/>
            <a:ext cx="4360680" cy="4586400"/>
            <a:chOff x="210960" y="1154160"/>
            <a:chExt cx="4360680" cy="4586400"/>
          </a:xfrm>
        </p:grpSpPr>
        <p:sp>
          <p:nvSpPr>
            <p:cNvPr id="121" name=""/>
            <p:cNvSpPr/>
            <p:nvPr/>
          </p:nvSpPr>
          <p:spPr>
            <a:xfrm>
              <a:off x="240480" y="1154160"/>
              <a:ext cx="4331160" cy="4586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0480" y="2770200"/>
              <a:ext cx="10800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8840" y="2210040"/>
              <a:ext cx="10764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6480" y="187344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4480" y="178452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2840" y="17845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0840" y="1917720"/>
              <a:ext cx="109800" cy="28584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90640" y="22035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98640" y="2529000"/>
              <a:ext cx="10800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7000" y="278316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4640" y="278316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23000" y="2529000"/>
              <a:ext cx="10764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31000" y="22035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39000" y="1917720"/>
              <a:ext cx="10296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41960" y="17845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49960" y="1784520"/>
              <a:ext cx="10980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59760" y="187344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67760" y="2216160"/>
              <a:ext cx="108000" cy="55404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76120" y="2770200"/>
              <a:ext cx="10764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84120" y="3451320"/>
              <a:ext cx="107640" cy="67320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1760" y="4124520"/>
              <a:ext cx="10800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00120" y="468468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08120" y="502128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16480" y="497700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4120" y="4684680"/>
              <a:ext cx="107640" cy="29232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32120" y="435924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40480" y="4111920"/>
              <a:ext cx="107640" cy="24732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8480" y="402300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56840" y="402300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4480" y="411192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72480" y="436572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80840" y="4691160"/>
              <a:ext cx="107640" cy="28584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88840" y="4977000"/>
              <a:ext cx="10800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97200" y="502128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4840" y="467856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12840" y="4124520"/>
              <a:ext cx="109800" cy="55404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22640" y="3444840"/>
              <a:ext cx="108000" cy="67968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0960" y="3405240"/>
              <a:ext cx="6120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960" y="27259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6960" y="21654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4960" y="18288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3320" y="1739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0960" y="187344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9320" y="21592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67320" y="24829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75320" y="2738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83680" y="28274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1320" y="2738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99680" y="24829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07680" y="21592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12440" y="18734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20440" y="1739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28080" y="18288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36440" y="2171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44440" y="27259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52800" y="340524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60800" y="4079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8440" y="46404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76800" y="49770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86600" y="506592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94600" y="493236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02600" y="464040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10960" y="4314960"/>
              <a:ext cx="590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18600" y="406728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6960" y="397836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34960" y="40672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42960" y="432144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51320" y="4646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58960" y="493236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7320" y="50659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75320" y="49770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83320" y="46339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1680" y="4079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99320" y="339912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940280" y="3429000"/>
            <a:ext cx="246852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ADD THEM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5400" y="246240"/>
            <a:ext cx="463860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f two or more travelling waves are moving through some medium, th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resultant wave displacemen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at any point is the algebraic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um of the individual wave displacement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0"/>
            <a:ext cx="398448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THE PRINCIPLE OF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0960" y="1200240"/>
            <a:ext cx="4360680" cy="4586040"/>
            <a:chOff x="210960" y="1200240"/>
            <a:chExt cx="4360680" cy="4586040"/>
          </a:xfrm>
        </p:grpSpPr>
        <p:sp>
          <p:nvSpPr>
            <p:cNvPr id="199" name=""/>
            <p:cNvSpPr/>
            <p:nvPr/>
          </p:nvSpPr>
          <p:spPr>
            <a:xfrm>
              <a:off x="240480" y="1200240"/>
              <a:ext cx="4331160" cy="4586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0480" y="2815920"/>
              <a:ext cx="10800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8840" y="2255760"/>
              <a:ext cx="10764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6480" y="191916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4480" y="183024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840" y="183024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0840" y="1963440"/>
              <a:ext cx="109800" cy="28548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0640" y="224928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98640" y="2574720"/>
              <a:ext cx="10800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07000" y="282888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14640" y="282888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23000" y="257472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31000" y="224928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39000" y="1963440"/>
              <a:ext cx="10296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41960" y="183024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49960" y="1830240"/>
              <a:ext cx="109800" cy="8856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9760" y="191916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67760" y="2261880"/>
              <a:ext cx="108000" cy="55368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76120" y="2815920"/>
              <a:ext cx="10764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84120" y="3497040"/>
              <a:ext cx="107640" cy="67284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91760" y="4170240"/>
              <a:ext cx="10800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00120" y="473040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08120" y="506700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16480" y="502272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24120" y="4730400"/>
              <a:ext cx="107640" cy="2919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2120" y="440496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40480" y="4157640"/>
              <a:ext cx="107640" cy="24696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480" y="406872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56840" y="406872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64480" y="4157640"/>
              <a:ext cx="107640" cy="25344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72480" y="441144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80840" y="4736880"/>
              <a:ext cx="107640" cy="28548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88840" y="5022720"/>
              <a:ext cx="10800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7200" y="506700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4840" y="472428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12840" y="4170240"/>
              <a:ext cx="109800" cy="55368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22640" y="3490560"/>
              <a:ext cx="108000" cy="67932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0960" y="345096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8960" y="27716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6960" y="22111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4960" y="18745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3320" y="1785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960" y="191916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59320" y="22050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67320" y="252864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75320" y="27842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83680" y="2873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91320" y="27842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9680" y="252864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07680" y="22050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2440" y="1919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20440" y="1785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28080" y="18745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36440" y="2217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44440" y="27716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52800" y="345096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60800" y="4125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68440" y="46861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76800" y="50227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86600" y="511164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94600" y="497808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02600" y="468612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10960" y="4360680"/>
              <a:ext cx="5904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18600" y="411300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26960" y="40240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34960" y="41130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42960" y="436716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51320" y="4692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58960" y="49780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67320" y="51116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75320" y="50227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83320" y="46796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91680" y="4125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99320" y="344484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10960" y="1211400"/>
            <a:ext cx="4360680" cy="4586040"/>
            <a:chOff x="210960" y="1211400"/>
            <a:chExt cx="4360680" cy="4586040"/>
          </a:xfrm>
        </p:grpSpPr>
        <p:sp>
          <p:nvSpPr>
            <p:cNvPr id="274" name=""/>
            <p:cNvSpPr/>
            <p:nvPr/>
          </p:nvSpPr>
          <p:spPr>
            <a:xfrm>
              <a:off x="240480" y="1211400"/>
              <a:ext cx="4331160" cy="4586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0480" y="2827080"/>
              <a:ext cx="10800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8840" y="2266920"/>
              <a:ext cx="10764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6480" y="193032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4480" y="184140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2840" y="184140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0840" y="1974600"/>
              <a:ext cx="109800" cy="28548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90640" y="226044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98640" y="2585880"/>
              <a:ext cx="10800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07000" y="284004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4640" y="284004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23000" y="258588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31000" y="226044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39000" y="1974600"/>
              <a:ext cx="10296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41960" y="184140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49960" y="1841400"/>
              <a:ext cx="109800" cy="8856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59760" y="193032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67760" y="2273040"/>
              <a:ext cx="108000" cy="55368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76120" y="2827080"/>
              <a:ext cx="10764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4120" y="3508200"/>
              <a:ext cx="107640" cy="67284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91760" y="4181400"/>
              <a:ext cx="10800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00120" y="474156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507816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16480" y="503388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24120" y="4741560"/>
              <a:ext cx="107640" cy="2919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32120" y="441612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40480" y="4168800"/>
              <a:ext cx="107640" cy="24696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8480" y="407988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56840" y="407988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64480" y="4168800"/>
              <a:ext cx="107640" cy="25344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72480" y="442260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80840" y="4748040"/>
              <a:ext cx="107640" cy="28548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8840" y="5033880"/>
              <a:ext cx="10800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97200" y="507816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04840" y="473544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12840" y="4181400"/>
              <a:ext cx="109800" cy="55368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22640" y="3501720"/>
              <a:ext cx="108000" cy="67932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0960" y="346212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" y="27828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6960" y="22222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4960" y="18856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3320" y="179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0960" y="19303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9320" y="2216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67320" y="253980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75320" y="27954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83680" y="28843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91320" y="27954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99680" y="253980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07680" y="2216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12440" y="19303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20440" y="179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28080" y="18856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36440" y="2228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44440" y="27828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52800" y="346212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60800" y="413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68440" y="46972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76800" y="5033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86600" y="512280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94600" y="498924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02600" y="469728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10960" y="4371840"/>
              <a:ext cx="5904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18600" y="412416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26960" y="40352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34960" y="4124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2960" y="437832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51320" y="4703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58960" y="49892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7320" y="51228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75320" y="5033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3320" y="46908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91680" y="413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99320" y="345600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10960" y="1193760"/>
            <a:ext cx="4360680" cy="4586400"/>
            <a:chOff x="210960" y="1193760"/>
            <a:chExt cx="4360680" cy="4586400"/>
          </a:xfrm>
        </p:grpSpPr>
        <p:sp>
          <p:nvSpPr>
            <p:cNvPr id="349" name=""/>
            <p:cNvSpPr/>
            <p:nvPr/>
          </p:nvSpPr>
          <p:spPr>
            <a:xfrm>
              <a:off x="240480" y="1193760"/>
              <a:ext cx="4331160" cy="4586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0480" y="2809800"/>
              <a:ext cx="10800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8840" y="2249640"/>
              <a:ext cx="10764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6480" y="191304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4480" y="182412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2840" y="18241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0840" y="1957320"/>
              <a:ext cx="109800" cy="28584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90640" y="22431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98640" y="2568600"/>
              <a:ext cx="10800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07000" y="282276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14640" y="282276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23000" y="2568600"/>
              <a:ext cx="10764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31000" y="22431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39000" y="1957320"/>
              <a:ext cx="10296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41960" y="18241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49960" y="1824120"/>
              <a:ext cx="10980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59760" y="191304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67760" y="2255760"/>
              <a:ext cx="108000" cy="55404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76120" y="2809800"/>
              <a:ext cx="10764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84120" y="3490920"/>
              <a:ext cx="107640" cy="67320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91760" y="4164120"/>
              <a:ext cx="10800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00120" y="472428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08120" y="506088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16480" y="501660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24120" y="4724280"/>
              <a:ext cx="107640" cy="29232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32120" y="439884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40480" y="4151520"/>
              <a:ext cx="107640" cy="24732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48480" y="406260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56840" y="406260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64480" y="415152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72480" y="440532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80840" y="4730760"/>
              <a:ext cx="107640" cy="28584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88840" y="5016600"/>
              <a:ext cx="10800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97200" y="506088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4840" y="471816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12840" y="4164120"/>
              <a:ext cx="109800" cy="55404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22640" y="3484440"/>
              <a:ext cx="108000" cy="67968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0960" y="3444840"/>
              <a:ext cx="6120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8960" y="27655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6960" y="22050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4960" y="18684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3320" y="177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0960" y="191304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9320" y="2198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67320" y="25225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5320" y="27781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83680" y="28670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91320" y="27781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99680" y="25225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7680" y="2198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12440" y="19130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20440" y="177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28080" y="18684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36440" y="2211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44440" y="2765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52800" y="344484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60800" y="411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68440" y="46800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166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86600" y="510552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94600" y="497196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02600" y="468000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10960" y="4354560"/>
              <a:ext cx="590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18600" y="410688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26960" y="401796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34960" y="4106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42960" y="436104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51320" y="4686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58960" y="497196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67320" y="51055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75320" y="50166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3320" y="4673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91680" y="411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99320" y="343872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10960" y="1176480"/>
            <a:ext cx="4360680" cy="4586040"/>
            <a:chOff x="210960" y="1176480"/>
            <a:chExt cx="4360680" cy="4586040"/>
          </a:xfrm>
        </p:grpSpPr>
        <p:sp>
          <p:nvSpPr>
            <p:cNvPr id="424" name=""/>
            <p:cNvSpPr/>
            <p:nvPr/>
          </p:nvSpPr>
          <p:spPr>
            <a:xfrm>
              <a:off x="240480" y="1176480"/>
              <a:ext cx="4331160" cy="4586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0480" y="2792160"/>
              <a:ext cx="10800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8840" y="2232000"/>
              <a:ext cx="10764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6480" y="189540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4480" y="180648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2840" y="180648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0840" y="1939680"/>
              <a:ext cx="109800" cy="28548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90640" y="222552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8640" y="2550960"/>
              <a:ext cx="10800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07000" y="280512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14640" y="280512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23000" y="255096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31000" y="222552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39000" y="1939680"/>
              <a:ext cx="10296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41960" y="180648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49960" y="1806480"/>
              <a:ext cx="109800" cy="8856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59760" y="189540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67760" y="2238120"/>
              <a:ext cx="108000" cy="55368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76120" y="2792160"/>
              <a:ext cx="10764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84120" y="3473280"/>
              <a:ext cx="107640" cy="67284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91760" y="4146480"/>
              <a:ext cx="10800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00120" y="470664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08120" y="504324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16480" y="499896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24120" y="4706640"/>
              <a:ext cx="107640" cy="2919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2120" y="438120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40480" y="4133880"/>
              <a:ext cx="107640" cy="24696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8480" y="404496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56840" y="404496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64480" y="4133880"/>
              <a:ext cx="107640" cy="25344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72480" y="438768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80840" y="4713120"/>
              <a:ext cx="107640" cy="28548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88840" y="4998960"/>
              <a:ext cx="10800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97200" y="504324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04840" y="470052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12840" y="4146480"/>
              <a:ext cx="109800" cy="55368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22640" y="3466800"/>
              <a:ext cx="108000" cy="67932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0960" y="342720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8960" y="2747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6960" y="21873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4960" y="185076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3320" y="1761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0960" y="18954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59320" y="21812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67320" y="250488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75320" y="27604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83680" y="28494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91320" y="27604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99680" y="250488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07680" y="21812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12440" y="18954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20440" y="1761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28080" y="185076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36440" y="2193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4440" y="27478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52800" y="342720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60800" y="4101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68440" y="466236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76800" y="49989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86600" y="508788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94600" y="495432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02600" y="466236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10960" y="4336920"/>
              <a:ext cx="5904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18600" y="408924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26960" y="40003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34960" y="40892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42960" y="434340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51320" y="4668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58960" y="49543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67320" y="5087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75320" y="49989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83320" y="46558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91680" y="4101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99320" y="342108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10960" y="1211400"/>
            <a:ext cx="4360680" cy="4586040"/>
            <a:chOff x="210960" y="1211400"/>
            <a:chExt cx="4360680" cy="4586040"/>
          </a:xfrm>
        </p:grpSpPr>
        <p:sp>
          <p:nvSpPr>
            <p:cNvPr id="499" name=""/>
            <p:cNvSpPr/>
            <p:nvPr/>
          </p:nvSpPr>
          <p:spPr>
            <a:xfrm>
              <a:off x="240480" y="1211400"/>
              <a:ext cx="4331160" cy="4586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0480" y="2827080"/>
              <a:ext cx="10800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8840" y="2266920"/>
              <a:ext cx="10764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6480" y="193032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4480" y="184140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2840" y="184140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0840" y="1974600"/>
              <a:ext cx="109800" cy="28548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90640" y="226044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98640" y="2585880"/>
              <a:ext cx="10800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07000" y="284004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14640" y="284004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23000" y="258588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431000" y="226044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39000" y="1974600"/>
              <a:ext cx="10296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41960" y="184140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49960" y="1841400"/>
              <a:ext cx="109800" cy="8856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59760" y="193032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67760" y="2273040"/>
              <a:ext cx="108000" cy="55368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76120" y="2827080"/>
              <a:ext cx="10764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184120" y="3508200"/>
              <a:ext cx="107640" cy="67284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91760" y="4181400"/>
              <a:ext cx="10800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00120" y="474156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08120" y="507816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16480" y="503388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24120" y="4741560"/>
              <a:ext cx="107640" cy="2919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832120" y="441612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40480" y="4168800"/>
              <a:ext cx="107640" cy="24696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48480" y="407988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56840" y="407988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64480" y="4168800"/>
              <a:ext cx="107640" cy="25344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72480" y="442260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80840" y="4748040"/>
              <a:ext cx="107640" cy="28548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88840" y="5033880"/>
              <a:ext cx="10800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97200" y="507816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04840" y="473544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12840" y="4181400"/>
              <a:ext cx="109800" cy="55368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2640" y="3501720"/>
              <a:ext cx="108000" cy="67932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0960" y="346212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8960" y="27828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6960" y="22222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4960" y="18856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3320" y="179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0960" y="19303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59320" y="2216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67320" y="253980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75320" y="27954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83680" y="28843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91320" y="27954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99680" y="253980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07680" y="2216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12440" y="19303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0440" y="179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28080" y="18856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36440" y="2228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44440" y="27828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52800" y="346212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60800" y="413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368440" y="46972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76800" y="5033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86600" y="512280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94600" y="498924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02600" y="469728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10960" y="4371840"/>
              <a:ext cx="5904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18600" y="412416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26960" y="40352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34960" y="4124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42960" y="437832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51320" y="4703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58960" y="49892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67320" y="51228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75320" y="5033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83320" y="46908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91680" y="413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99320" y="345600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10960" y="1193760"/>
            <a:ext cx="4360680" cy="4586400"/>
            <a:chOff x="210960" y="1193760"/>
            <a:chExt cx="4360680" cy="4586400"/>
          </a:xfrm>
        </p:grpSpPr>
        <p:sp>
          <p:nvSpPr>
            <p:cNvPr id="574" name=""/>
            <p:cNvSpPr/>
            <p:nvPr/>
          </p:nvSpPr>
          <p:spPr>
            <a:xfrm>
              <a:off x="240480" y="1193760"/>
              <a:ext cx="4331160" cy="4586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0480" y="2809800"/>
              <a:ext cx="10800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48840" y="2249640"/>
              <a:ext cx="10764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6480" y="191304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4480" y="182412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2840" y="18241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0840" y="1957320"/>
              <a:ext cx="109800" cy="28584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90640" y="22431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98640" y="2568600"/>
              <a:ext cx="10800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107000" y="282276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4640" y="282276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23000" y="2568600"/>
              <a:ext cx="10764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31000" y="22431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39000" y="1957320"/>
              <a:ext cx="10296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41960" y="18241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49960" y="1824120"/>
              <a:ext cx="10980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59760" y="191304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67760" y="2255760"/>
              <a:ext cx="108000" cy="55404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76120" y="2809800"/>
              <a:ext cx="10764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84120" y="3490920"/>
              <a:ext cx="107640" cy="67320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91760" y="4164120"/>
              <a:ext cx="10800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00120" y="472428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08120" y="506088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616480" y="501660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24120" y="4724280"/>
              <a:ext cx="107640" cy="29232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32120" y="439884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40480" y="4151520"/>
              <a:ext cx="107640" cy="24732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48480" y="406260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56840" y="406260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64480" y="415152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72480" y="440532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80840" y="4730760"/>
              <a:ext cx="107640" cy="28584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88840" y="5016600"/>
              <a:ext cx="10800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97200" y="506088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04840" y="471816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12840" y="4164120"/>
              <a:ext cx="109800" cy="55404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22640" y="3484440"/>
              <a:ext cx="108000" cy="67968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960" y="3444840"/>
              <a:ext cx="6120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8960" y="27655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960" y="22050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4960" y="18684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3320" y="177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0960" y="191304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59320" y="2198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67320" y="25225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75320" y="27781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83680" y="28670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91320" y="27781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99680" y="25225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07680" y="2198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12440" y="19130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20440" y="177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28080" y="18684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36440" y="2211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44440" y="2765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52800" y="344484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60800" y="411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68440" y="46800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76800" y="50166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86600" y="510552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94600" y="497196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802600" y="468000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10960" y="4354560"/>
              <a:ext cx="590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18600" y="410688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26960" y="401796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34960" y="4106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42960" y="436104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51320" y="4686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58960" y="497196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67320" y="51055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75320" y="50166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83320" y="4673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91680" y="411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99320" y="343872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649-445C-4DCA-A354-4D009C158C40}" type="slidenum">
              <a:t>2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2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7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2"/>
                                      </p:cond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700"/>
                            </p:stCondLst>
                            <p:childTnLst>
                              <p:par>
                                <p:cTn id="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OG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0" y="0"/>
          <a:ext cx="4572000" cy="34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57200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6208560" y="758880"/>
            <a:ext cx="130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 Black"/>
              </a:rPr>
              <a:t>+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49560" y="4106880"/>
            <a:ext cx="144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 Black"/>
              </a:rPr>
              <a:t>=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4572000" y="100080"/>
          <a:ext cx="4572000" cy="332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00080"/>
                    <a:ext cx="45720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2297160" y="3429000"/>
          <a:ext cx="4572000" cy="3429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97160" y="342900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724-A858-4502-AE1C-DEB63574D37E}" type="slidenum">
              <a:t>3</a:t>
            </a:fld>
          </a:p>
        </p:txBody>
      </p:sp>
    </p:spTree>
  </p:cSld>
  <p:transition spd="slow">
    <p:split dir="in" orient="horz"/>
    <p:sndAc>
      <p:stSnd>
        <p:snd r:embed="rId7" name="CAMERA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439560" y="212760"/>
            <a:ext cx="8007480" cy="108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ombination of separate waves in the same region of space to produce a resultant 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called </a:t>
            </a:r>
            <a:r>
              <a:rPr b="1" i="1" lang="en-US" sz="2400" spc="-1" strike="noStrike">
                <a:solidFill>
                  <a:srgbClr val="ff0033"/>
                </a:solidFill>
                <a:latin typeface="Comic Sans MS"/>
              </a:rPr>
              <a:t>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1447920"/>
            <a:ext cx="64515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.g. between two dippers in a Ripple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1279440" y="2060640"/>
          <a:ext cx="657720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60640"/>
                    <a:ext cx="6577200" cy="3146400"/>
                  </a:xfrm>
                  <a:prstGeom prst="rect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3405240" y="5680080"/>
            <a:ext cx="2276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3863880" y="5079600"/>
            <a:ext cx="122400" cy="5288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081760" y="5097600"/>
            <a:ext cx="210960" cy="528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1A1-D7C3-4814-9BFB-9AC9DAC30109}" type="slidenum">
              <a:t>4</a:t>
            </a:fld>
          </a:p>
        </p:txBody>
      </p:sp>
    </p:spTree>
  </p:cSld>
  <p:transition spd="slow">
    <p:split dir="in" orient="horz"/>
    <p:sndAc>
      <p:stSnd>
        <p:snd r:embed="rId3" name="CAMERA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460440" y="700200"/>
            <a:ext cx="4814640" cy="620640"/>
            <a:chOff x="460440" y="700200"/>
            <a:chExt cx="4814640" cy="620640"/>
          </a:xfrm>
        </p:grpSpPr>
        <p:sp>
          <p:nvSpPr>
            <p:cNvPr id="664" name=""/>
            <p:cNvSpPr/>
            <p:nvPr/>
          </p:nvSpPr>
          <p:spPr>
            <a:xfrm>
              <a:off x="460440" y="70020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63920" y="70020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67760" y="70020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71600" y="70020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0" y="3765600"/>
            <a:ext cx="53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90600" y="1690560"/>
            <a:ext cx="4814640" cy="621000"/>
            <a:chOff x="390600" y="1690560"/>
            <a:chExt cx="4814640" cy="621000"/>
          </a:xfrm>
        </p:grpSpPr>
        <p:sp>
          <p:nvSpPr>
            <p:cNvPr id="670" name=""/>
            <p:cNvSpPr/>
            <p:nvPr/>
          </p:nvSpPr>
          <p:spPr>
            <a:xfrm>
              <a:off x="390600" y="169056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94080" y="169056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97920" y="169056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001760" y="169056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4876920" y="474840"/>
            <a:ext cx="40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se two waves 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 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81720" y="5529240"/>
            <a:ext cx="58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35720" y="1849320"/>
            <a:ext cx="30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DO THEY ADD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525600" y="3762360"/>
            <a:ext cx="4814640" cy="620640"/>
            <a:chOff x="525600" y="3762360"/>
            <a:chExt cx="4814640" cy="620640"/>
          </a:xfrm>
        </p:grpSpPr>
        <p:sp>
          <p:nvSpPr>
            <p:cNvPr id="678" name=""/>
            <p:cNvSpPr/>
            <p:nvPr/>
          </p:nvSpPr>
          <p:spPr>
            <a:xfrm>
              <a:off x="525600" y="376236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9080" y="376236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32920" y="376236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36760" y="376236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525600" y="3906720"/>
            <a:ext cx="4814640" cy="621000"/>
            <a:chOff x="525600" y="3906720"/>
            <a:chExt cx="4814640" cy="621000"/>
          </a:xfrm>
        </p:grpSpPr>
        <p:sp>
          <p:nvSpPr>
            <p:cNvPr id="683" name=""/>
            <p:cNvSpPr/>
            <p:nvPr/>
          </p:nvSpPr>
          <p:spPr>
            <a:xfrm>
              <a:off x="525600" y="390672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29080" y="390672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32920" y="390672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36760" y="390672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58720" y="3033720"/>
            <a:ext cx="4814640" cy="2123640"/>
            <a:chOff x="558720" y="3033720"/>
            <a:chExt cx="4814640" cy="2123640"/>
          </a:xfrm>
        </p:grpSpPr>
        <p:sp>
          <p:nvSpPr>
            <p:cNvPr id="688" name=""/>
            <p:cNvSpPr/>
            <p:nvPr/>
          </p:nvSpPr>
          <p:spPr>
            <a:xfrm>
              <a:off x="558720" y="3033720"/>
              <a:ext cx="1203480" cy="2123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62200" y="3033720"/>
              <a:ext cx="1203840" cy="2123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966040" y="3033720"/>
              <a:ext cx="1203840" cy="2123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69880" y="3033720"/>
              <a:ext cx="1203480" cy="2123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 flipH="1">
            <a:off x="5291280" y="4621320"/>
            <a:ext cx="458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51360" y="4416480"/>
            <a:ext cx="2276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This is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EDE-909E-48EE-A700-19FFAAAFE00B}" type="slidenum">
              <a:t>5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" dur="75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460440" y="700200"/>
            <a:ext cx="4814640" cy="620640"/>
            <a:chOff x="460440" y="700200"/>
            <a:chExt cx="4814640" cy="620640"/>
          </a:xfrm>
        </p:grpSpPr>
        <p:sp>
          <p:nvSpPr>
            <p:cNvPr id="695" name=""/>
            <p:cNvSpPr/>
            <p:nvPr/>
          </p:nvSpPr>
          <p:spPr>
            <a:xfrm>
              <a:off x="460440" y="70020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63920" y="70020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67760" y="70020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71600" y="70020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876920" y="474840"/>
            <a:ext cx="40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se two waves arrive in ANTI-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39560" y="1601640"/>
            <a:ext cx="4770360" cy="633600"/>
            <a:chOff x="439560" y="1601640"/>
            <a:chExt cx="4770360" cy="633600"/>
          </a:xfrm>
        </p:grpSpPr>
        <p:sp>
          <p:nvSpPr>
            <p:cNvPr id="701" name=""/>
            <p:cNvSpPr/>
            <p:nvPr/>
          </p:nvSpPr>
          <p:spPr>
            <a:xfrm flipV="1">
              <a:off x="439560" y="1601640"/>
              <a:ext cx="1187280" cy="6336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642680" y="1601640"/>
              <a:ext cx="1189080" cy="6336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847600" y="1601640"/>
              <a:ext cx="1187640" cy="6336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022280" y="1601640"/>
              <a:ext cx="1187640" cy="6336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5535720" y="1849320"/>
            <a:ext cx="30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DO THEY ADD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504720" y="3675240"/>
            <a:ext cx="4814640" cy="620640"/>
            <a:chOff x="504720" y="3675240"/>
            <a:chExt cx="4814640" cy="620640"/>
          </a:xfrm>
        </p:grpSpPr>
        <p:sp>
          <p:nvSpPr>
            <p:cNvPr id="707" name=""/>
            <p:cNvSpPr/>
            <p:nvPr/>
          </p:nvSpPr>
          <p:spPr>
            <a:xfrm>
              <a:off x="504720" y="367524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08200" y="367524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12040" y="367524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15880" y="367524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539640" y="3676320"/>
            <a:ext cx="4770360" cy="633240"/>
            <a:chOff x="539640" y="3676320"/>
            <a:chExt cx="4770360" cy="633240"/>
          </a:xfrm>
        </p:grpSpPr>
        <p:sp>
          <p:nvSpPr>
            <p:cNvPr id="712" name=""/>
            <p:cNvSpPr/>
            <p:nvPr/>
          </p:nvSpPr>
          <p:spPr>
            <a:xfrm flipV="1">
              <a:off x="539640" y="3675960"/>
              <a:ext cx="1187280" cy="6332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1742760" y="3675960"/>
              <a:ext cx="1189080" cy="6332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947680" y="3675960"/>
              <a:ext cx="1187640" cy="6332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122360" y="3675960"/>
              <a:ext cx="1187640" cy="6332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28480" y="3968640"/>
            <a:ext cx="4781880" cy="17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27080" y="4876920"/>
            <a:ext cx="553752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556240" y="3968640"/>
            <a:ext cx="458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97480" y="3711600"/>
            <a:ext cx="2276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This is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498840"/>
            <a:ext cx="53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93E-AB62-4CF4-AB08-87DB8918673C}" type="slidenum">
              <a:t>6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3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75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441360" y="387360"/>
            <a:ext cx="8219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CONDITIONS FOR A PERMANENT INTERFERENCE PATT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0040" y="1868400"/>
            <a:ext cx="8678880" cy="229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sources must b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heren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i.e. they must be in phase with  one another or they must maintain a constant phas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4440" y="3429000"/>
            <a:ext cx="8640720" cy="13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sources must have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ame wavelength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47680" y="4098960"/>
            <a:ext cx="8645400" cy="13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sources   must hav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milar amplitud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7680" y="4786200"/>
            <a:ext cx="866916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sources must have the same plane of polaris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440-E0F7-433F-B818-E7834736F6F9}" type="slidenum">
              <a:t>7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"/>
          <p:cNvGrpSpPr/>
          <p:nvPr/>
        </p:nvGrpSpPr>
        <p:grpSpPr>
          <a:xfrm>
            <a:off x="1922400" y="704880"/>
            <a:ext cx="4101840" cy="6153120"/>
            <a:chOff x="1922400" y="704880"/>
            <a:chExt cx="4101840" cy="6153120"/>
          </a:xfrm>
        </p:grpSpPr>
        <p:grpSp>
          <p:nvGrpSpPr>
            <p:cNvPr id="727" name=""/>
            <p:cNvGrpSpPr/>
            <p:nvPr/>
          </p:nvGrpSpPr>
          <p:grpSpPr>
            <a:xfrm>
              <a:off x="1922400" y="704880"/>
              <a:ext cx="4101840" cy="6153120"/>
              <a:chOff x="1922400" y="704880"/>
              <a:chExt cx="4101840" cy="6153120"/>
            </a:xfrm>
          </p:grpSpPr>
          <p:grpSp>
            <p:nvGrpSpPr>
              <p:cNvPr id="728" name=""/>
              <p:cNvGrpSpPr/>
              <p:nvPr/>
            </p:nvGrpSpPr>
            <p:grpSpPr>
              <a:xfrm>
                <a:off x="1922400" y="704880"/>
                <a:ext cx="4101840" cy="6153120"/>
                <a:chOff x="1922400" y="704880"/>
                <a:chExt cx="4101840" cy="615312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1935000" y="1155600"/>
                  <a:ext cx="4089240" cy="5613480"/>
                  <a:chOff x="1935000" y="1155600"/>
                  <a:chExt cx="4089240" cy="5613480"/>
                </a:xfrm>
              </p:grpSpPr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1935000" y="1155600"/>
                    <a:ext cx="4013280" cy="3708360"/>
                    <a:chOff x="1935000" y="1155600"/>
                    <a:chExt cx="4013280" cy="370836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3584520" y="2681280"/>
                      <a:ext cx="715680" cy="6602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3171600" y="2298600"/>
                      <a:ext cx="1541520" cy="14223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2761920" y="1917720"/>
                      <a:ext cx="2359080" cy="218448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2347560" y="1535040"/>
                      <a:ext cx="3187800" cy="2948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935000" y="1155600"/>
                      <a:ext cx="4013280" cy="37083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1935000" y="3137040"/>
                    <a:ext cx="4089240" cy="3632040"/>
                    <a:chOff x="1935000" y="3137040"/>
                    <a:chExt cx="4089240" cy="363204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3616200" y="4630680"/>
                      <a:ext cx="728640" cy="6476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3195360" y="4255920"/>
                      <a:ext cx="1569960" cy="139392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2774880" y="3882960"/>
                      <a:ext cx="2409840" cy="21398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2355840" y="3510000"/>
                      <a:ext cx="3247920" cy="288432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935000" y="3137040"/>
                      <a:ext cx="4089240" cy="3632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42" name=""/>
                <p:cNvSpPr/>
                <p:nvPr/>
              </p:nvSpPr>
              <p:spPr>
                <a:xfrm>
                  <a:off x="1922400" y="704880"/>
                  <a:ext cx="2011320" cy="61531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" name=""/>
              <p:cNvSpPr/>
              <p:nvPr/>
            </p:nvSpPr>
            <p:spPr>
              <a:xfrm>
                <a:off x="3898800" y="299880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92320" y="495000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3350880" y="2706840"/>
              <a:ext cx="47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81120" y="4675320"/>
              <a:ext cx="47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52440" y="228600"/>
            <a:ext cx="3174840" cy="10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 and S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 are two coher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26000" y="404640"/>
            <a:ext cx="4116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All points on a  wavefront are in phase with one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51440" y="3962520"/>
            <a:ext cx="2565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051440" y="3492360"/>
            <a:ext cx="2565360" cy="330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51440" y="4203720"/>
            <a:ext cx="2565360" cy="127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3978360" y="3068640"/>
            <a:ext cx="2581200" cy="619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92400" y="4351320"/>
            <a:ext cx="2573640" cy="3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318960" y="1276200"/>
            <a:ext cx="3316320" cy="1472400"/>
            <a:chOff x="318960" y="1276200"/>
            <a:chExt cx="3316320" cy="1472400"/>
          </a:xfrm>
        </p:grpSpPr>
        <p:sp>
          <p:nvSpPr>
            <p:cNvPr id="755" name=""/>
            <p:cNvSpPr/>
            <p:nvPr/>
          </p:nvSpPr>
          <p:spPr>
            <a:xfrm>
              <a:off x="318960" y="1276200"/>
              <a:ext cx="3316320" cy="14724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aves interfere constructively where wavefronts mee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 antinodal l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7560" y="2579400"/>
              <a:ext cx="617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 flipV="1">
            <a:off x="4075200" y="3314520"/>
            <a:ext cx="2469960" cy="492120"/>
          </a:xfrm>
          <a:prstGeom prst="line">
            <a:avLst/>
          </a:prstGeom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127400" y="3703320"/>
            <a:ext cx="2487600" cy="176040"/>
          </a:xfrm>
          <a:prstGeom prst="line">
            <a:avLst/>
          </a:prstGeom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092480" y="4073400"/>
            <a:ext cx="2540160" cy="54000"/>
          </a:xfrm>
          <a:prstGeom prst="line">
            <a:avLst/>
          </a:prstGeom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057560" y="4303800"/>
            <a:ext cx="2557440" cy="228600"/>
          </a:xfrm>
          <a:prstGeom prst="line">
            <a:avLst/>
          </a:prstGeom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7520" y="3533760"/>
            <a:ext cx="3462480" cy="916920"/>
          </a:xfrm>
          <a:prstGeom prst="rect">
            <a:avLst/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Along the nodal lines, destructive interference occ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Here antiphase wavefronts mee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724080" y="2966040"/>
            <a:ext cx="1830960" cy="3336840"/>
            <a:chOff x="6724080" y="2966040"/>
            <a:chExt cx="1830960" cy="3336840"/>
          </a:xfrm>
        </p:grpSpPr>
        <p:grpSp>
          <p:nvGrpSpPr>
            <p:cNvPr id="763" name=""/>
            <p:cNvGrpSpPr/>
            <p:nvPr/>
          </p:nvGrpSpPr>
          <p:grpSpPr>
            <a:xfrm>
              <a:off x="6724080" y="2966040"/>
              <a:ext cx="1830960" cy="3336840"/>
              <a:chOff x="6724080" y="2966040"/>
              <a:chExt cx="1830960" cy="333684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724080" y="2966040"/>
                <a:ext cx="1830960" cy="3336840"/>
                <a:chOff x="6724080" y="2966040"/>
                <a:chExt cx="1830960" cy="3336840"/>
              </a:xfrm>
            </p:grpSpPr>
            <p:grpSp>
              <p:nvGrpSpPr>
                <p:cNvPr id="765" name=""/>
                <p:cNvGrpSpPr/>
                <p:nvPr/>
              </p:nvGrpSpPr>
              <p:grpSpPr>
                <a:xfrm>
                  <a:off x="6724080" y="2966040"/>
                  <a:ext cx="1830960" cy="3336840"/>
                  <a:chOff x="6724080" y="2966040"/>
                  <a:chExt cx="1830960" cy="3336840"/>
                </a:xfrm>
              </p:grpSpPr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6724080" y="2966040"/>
                    <a:ext cx="967320" cy="1883880"/>
                    <a:chOff x="6724080" y="2966040"/>
                    <a:chExt cx="967320" cy="1883880"/>
                  </a:xfrm>
                </p:grpSpPr>
                <p:grpSp>
                  <p:nvGrpSpPr>
                    <p:cNvPr id="767" name=""/>
                    <p:cNvGrpSpPr/>
                    <p:nvPr/>
                  </p:nvGrpSpPr>
                  <p:grpSpPr>
                    <a:xfrm>
                      <a:off x="6724080" y="2966040"/>
                      <a:ext cx="900720" cy="1883880"/>
                      <a:chOff x="6724080" y="2966040"/>
                      <a:chExt cx="900720" cy="1883880"/>
                    </a:xfrm>
                  </p:grpSpPr>
                  <p:grpSp>
                    <p:nvGrpSpPr>
                      <p:cNvPr id="768" name=""/>
                      <p:cNvGrpSpPr/>
                      <p:nvPr/>
                    </p:nvGrpSpPr>
                    <p:grpSpPr>
                      <a:xfrm>
                        <a:off x="6751800" y="2985840"/>
                        <a:ext cx="873000" cy="1864080"/>
                        <a:chOff x="6751800" y="2985840"/>
                        <a:chExt cx="873000" cy="1864080"/>
                      </a:xfrm>
                    </p:grpSpPr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>
                          <a:off x="6756480" y="3033720"/>
                          <a:ext cx="0" cy="17812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H="1" rot="5400000">
                          <a:off x="6881040" y="3580560"/>
                          <a:ext cx="425520" cy="674640"/>
                        </a:xfrm>
                        <a:prstGeom prst="flowChartExtract">
                          <a:avLst/>
                        </a:pr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H="1" rot="5400000">
                          <a:off x="6902280" y="3249720"/>
                          <a:ext cx="216000" cy="504720"/>
                        </a:xfrm>
                        <a:prstGeom prst="flowChartExtract">
                          <a:avLst/>
                        </a:pr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flipH="1" rot="5400000">
                          <a:off x="6878880" y="4106880"/>
                          <a:ext cx="250560" cy="504720"/>
                        </a:xfrm>
                        <a:prstGeom prst="flowChartExtract">
                          <a:avLst/>
                        </a:pr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 flipH="1" rot="5400000">
                          <a:off x="6802200" y="4593240"/>
                          <a:ext cx="216000" cy="297000"/>
                        </a:xfrm>
                        <a:prstGeom prst="flowChartExtract">
                          <a:avLst/>
                        </a:pr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flipH="1" rot="5400000">
                          <a:off x="6778080" y="2963520"/>
                          <a:ext cx="215640" cy="260280"/>
                        </a:xfrm>
                        <a:prstGeom prst="flowChartExtract">
                          <a:avLst/>
                        </a:pr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rot="10800000">
                          <a:off x="6951600" y="3773160"/>
                          <a:ext cx="673200" cy="212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1938"/>
                                <a:pt x="10800" y="5080"/>
                                <a:pt x="10800" y="10800"/>
                              </a:cubicBezTo>
                              <a:cubicBezTo>
                                <a:pt x="10800" y="16520"/>
                                <a:pt x="16200" y="19662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 rot="10800000">
                          <a:off x="6873840" y="3411000"/>
                          <a:ext cx="496800" cy="19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1938"/>
                                <a:pt x="10800" y="5080"/>
                                <a:pt x="10800" y="10800"/>
                              </a:cubicBezTo>
                              <a:cubicBezTo>
                                <a:pt x="10800" y="16520"/>
                                <a:pt x="16200" y="19662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 rot="10800000">
                          <a:off x="6848640" y="4250880"/>
                          <a:ext cx="496800" cy="19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1938"/>
                                <a:pt x="10800" y="5080"/>
                                <a:pt x="10800" y="10800"/>
                              </a:cubicBezTo>
                              <a:cubicBezTo>
                                <a:pt x="10800" y="16520"/>
                                <a:pt x="16200" y="19662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78" name=""/>
                      <p:cNvSpPr/>
                      <p:nvPr/>
                    </p:nvSpPr>
                    <p:spPr>
                      <a:xfrm rot="11400000">
                        <a:off x="6744600" y="4640400"/>
                        <a:ext cx="3207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200" y="1938"/>
                              <a:pt x="10800" y="5080"/>
                              <a:pt x="10800" y="10800"/>
                            </a:cubicBezTo>
                            <a:cubicBezTo>
                              <a:pt x="10800" y="16520"/>
                              <a:pt x="16200" y="19662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7c80"/>
                      </a:solidFill>
                      <a:ln w="9360">
                        <a:solidFill>
                          <a:srgbClr val="ff7c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 rot="11400000">
                        <a:off x="6736680" y="2992320"/>
                        <a:ext cx="3207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200" y="1938"/>
                              <a:pt x="10800" y="5080"/>
                              <a:pt x="10800" y="10800"/>
                            </a:cubicBezTo>
                            <a:cubicBezTo>
                              <a:pt x="10800" y="16520"/>
                              <a:pt x="16200" y="19662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7c80"/>
                      </a:solidFill>
                      <a:ln w="9360">
                        <a:solidFill>
                          <a:srgbClr val="ff7c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6773760" y="4797360"/>
                      <a:ext cx="917640" cy="0"/>
                    </a:xfrm>
                    <a:prstGeom prst="line">
                      <a:avLst/>
                    </a:prstGeom>
                    <a:ln w="57240">
                      <a:solidFill>
                        <a:srgbClr val="ff33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1" name=""/>
                  <p:cNvSpPr/>
                  <p:nvPr/>
                </p:nvSpPr>
                <p:spPr>
                  <a:xfrm>
                    <a:off x="6738840" y="4921200"/>
                    <a:ext cx="1816200" cy="138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Comic Sans MS"/>
                      </a:rPr>
                      <a:t>Wave Intensit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Comic Sans MS"/>
                      </a:rPr>
                      <a:t>(Fringes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2" name=""/>
                <p:cNvSpPr/>
                <p:nvPr/>
              </p:nvSpPr>
              <p:spPr>
                <a:xfrm flipV="1">
                  <a:off x="6738840" y="3755160"/>
                  <a:ext cx="793800" cy="211320"/>
                </a:xfrm>
                <a:prstGeom prst="flowChartDecision">
                  <a:avLst/>
                </a:prstGeom>
                <a:solidFill>
                  <a:srgbClr val="ff7c80"/>
                </a:solidFill>
                <a:ln w="936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" name=""/>
              <p:cNvSpPr/>
              <p:nvPr/>
            </p:nvSpPr>
            <p:spPr>
              <a:xfrm flipH="1" rot="5400000">
                <a:off x="6959520" y="3234240"/>
                <a:ext cx="193680" cy="582840"/>
              </a:xfrm>
              <a:prstGeom prst="triangle">
                <a:avLst>
                  <a:gd name="adj" fmla="val 48292"/>
                </a:avLst>
              </a:prstGeom>
              <a:solidFill>
                <a:srgbClr val="ff7c80"/>
              </a:soli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6740640" y="4637160"/>
              <a:ext cx="226800" cy="745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A24-5AF9-4A4F-B491-51D8B6D92292}" type="slidenum">
              <a:t>8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200"/>
                            </p:stCondLst>
                            <p:childTnLst>
                              <p:par>
                                <p:cTn id="3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700"/>
                            </p:stCondLst>
                            <p:childTnLst>
                              <p:par>
                                <p:cTn id="3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200"/>
                            </p:stCondLst>
                            <p:childTnLst>
                              <p:par>
                                <p:cTn id="3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700"/>
                            </p:stCondLst>
                            <p:childTnLst>
                              <p:par>
                                <p:cTn id="3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5665680" y="1247760"/>
            <a:ext cx="12708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75240" y="4048200"/>
            <a:ext cx="13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80840" y="446256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505320" y="1560600"/>
            <a:ext cx="0" cy="2516040"/>
            <a:chOff x="3505320" y="1560600"/>
            <a:chExt cx="0" cy="2516040"/>
          </a:xfrm>
        </p:grpSpPr>
        <p:sp>
          <p:nvSpPr>
            <p:cNvPr id="789" name=""/>
            <p:cNvSpPr/>
            <p:nvPr/>
          </p:nvSpPr>
          <p:spPr>
            <a:xfrm>
              <a:off x="3505320" y="1560600"/>
              <a:ext cx="0" cy="9144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5320" y="2590920"/>
              <a:ext cx="0" cy="46008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505320" y="3162240"/>
              <a:ext cx="0" cy="9144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266760" y="2179800"/>
            <a:ext cx="2363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nochromatic light, wavelength 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58880" y="2476440"/>
            <a:ext cx="831960" cy="1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560680" y="3151080"/>
            <a:ext cx="831960" cy="1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13240" y="289080"/>
            <a:ext cx="375156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Young’s Double Sl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6122880" y="1854360"/>
            <a:ext cx="2607840" cy="2098080"/>
            <a:chOff x="6122880" y="1854360"/>
            <a:chExt cx="2607840" cy="2098080"/>
          </a:xfrm>
        </p:grpSpPr>
        <p:sp>
          <p:nvSpPr>
            <p:cNvPr id="797" name=""/>
            <p:cNvSpPr/>
            <p:nvPr/>
          </p:nvSpPr>
          <p:spPr>
            <a:xfrm>
              <a:off x="6122880" y="1854360"/>
              <a:ext cx="2607840" cy="2098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31360" y="2649600"/>
              <a:ext cx="88200" cy="559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36280" y="2644200"/>
              <a:ext cx="88200" cy="559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02760" y="2658600"/>
              <a:ext cx="88560" cy="559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43880" y="2651760"/>
              <a:ext cx="88200" cy="559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967080" y="2642760"/>
              <a:ext cx="88200" cy="559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94320" y="2656800"/>
              <a:ext cx="131760" cy="539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30360" y="2647800"/>
              <a:ext cx="88200" cy="559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042400" y="2692800"/>
              <a:ext cx="0" cy="519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97800" y="2685600"/>
              <a:ext cx="0" cy="520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64160" y="2685600"/>
              <a:ext cx="0" cy="520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466680" y="2685600"/>
              <a:ext cx="0" cy="520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427960" y="2682360"/>
              <a:ext cx="88200" cy="559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56080" y="2680200"/>
              <a:ext cx="88200" cy="559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6095880" y="457200"/>
            <a:ext cx="283068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series of dark and bright fringes on the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46360" y="2822400"/>
            <a:ext cx="7048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34C-39BF-4DA8-B552-5DE69959976D}" type="slidenum">
              <a:t>9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OG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14:44:38Z</dcterms:created>
  <dc:creator>JOHN PARKINSON</dc:creator>
  <dc:description/>
  <dc:language>en-US</dc:language>
  <cp:lastModifiedBy>Janet </cp:lastModifiedBy>
  <dcterms:modified xsi:type="dcterms:W3CDTF">2005-05-21T01:02:38Z</dcterms:modified>
  <cp:revision>41</cp:revision>
  <dc:subject/>
  <dc:title>No Slide Title</dc:title>
</cp:coreProperties>
</file>